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8C764-4BDA-4453-BF66-62BC0C144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2EFDB-BCB4-4D1F-94B9-1AA214F9F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A7589-F603-4599-9998-ED2B6868B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50CFA-BECA-414C-902C-CBF5495D5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27AA5-AFF5-4DCF-BE4E-A102CBBB5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74D62-3324-4921-9C8E-69853EB73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2EE03-A2FE-43A4-A74B-B178C654D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A834B-0B92-41DC-925F-134B345B6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307C9-182C-4E0B-A2E5-175B94563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BED75-4FDE-441B-8BD6-68292DC90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A098F-65F4-4D45-A968-56A6335E5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F9430-E225-41D5-9D05-DB07892F4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76EB-A071-426E-9C4A-E92185E7CF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1371600"/>
            <a:ext cx="7696080" cy="375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قوائم المالية المجمعة – التغييرات فى المجو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إقتناء التدريجى.</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تخلص أو التخلص الجزئى من الشركات التابعة.</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مبادىء التخلى عن الإندماج. (إلغاء الإندماج)</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الطرق البديلة للمحاسبة عن المجموع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685800"/>
            <a:ext cx="838224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حاجة الى تخفيض راس المال عادة عندما تواجه الشركة مشاكل مالية، والحالة العادية هو ان بعض راس المال يتم تخفيضه لدرجة ان رصيد الخسائر المرحلة يتم حذفه. كما انه قد توجد حاجة الى تخفيض إضافى فى راس المال بسبب الإنخفاض فى قيمة الاصو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عتبر هذا الوضع شبيها بإصدار العلاوة للحد الذى يمثل بشكل فعال تحويل من رأس المال الى الإحتياطيات. لذلك لا يجب ان يكون هناك تأثير على القوائم المالية المجمع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كون من السهل تحديد شهرة المحل التى نشأت عند الشراء الاصلى بإستخدام الارقام الأصلية لرأس المال والإحتياطيات. وإذا كان هناك أصل إنخفضت قيمته عندئذ يجب تحميل إحتياطيات المجموعة بقيمة حصة المجموعة من إنخفاض الاص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685800"/>
            <a:ext cx="853452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متلك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الملكية فى الشركة (ب) التى تقوم بخطة لتخفيض رأس المال وقد كانت ميزانيتها قبل تخفيض راس الما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تنطوى خطة تخفيض راس المال على إستبعاد رصيد الخسائر المرحلة وتخفيض الاصول بم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 علما بان الشركة (أ) قامت بسداد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مقابل إستثماراتها فى الشركة (ب) عندما كانت إحتياطيات الشركة (ب)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هذا وقد تم إستنفاد شهرة المحل الناشئة عند الإقتناء بالكام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85800"/>
            <a:ext cx="883944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خطة 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ـــة =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باستخدام الارقام الاصلية) = </a:t>
            </a:r>
            <a:r>
              <a:rPr b="0" lang="ar-SA" sz="2000" spc="-1" strike="noStrike">
                <a:solidFill>
                  <a:srgbClr val="000000"/>
                </a:solidFill>
                <a:latin typeface="Times New Roman"/>
              </a:rPr>
              <a:t>800000</a:t>
            </a:r>
            <a:r>
              <a:rPr b="0" lang="ar-SA" sz="2000" spc="-1" strike="noStrike">
                <a:solidFill>
                  <a:srgbClr val="000000"/>
                </a:solidFill>
                <a:latin typeface="Times New Roman"/>
              </a:rPr>
              <a:t> – (</a:t>
            </a:r>
            <a:r>
              <a:rPr b="0" lang="ar-SA" sz="2000" spc="-1" strike="noStrike">
                <a:solidFill>
                  <a:srgbClr val="000000"/>
                </a:solidFill>
                <a:latin typeface="Times New Roman"/>
              </a:rPr>
              <a:t>650000</a:t>
            </a:r>
            <a:r>
              <a:rPr b="0" lang="ar-EG" sz="2000" spc="-1" strike="noStrike">
                <a:solidFill>
                  <a:srgbClr val="000000"/>
                </a:solidFill>
                <a:latin typeface="Times New Roman"/>
              </a:rPr>
              <a:t>+</a:t>
            </a:r>
            <a:r>
              <a:rPr b="0" lang="ar-EG" sz="2000" spc="-1" strike="noStrike">
                <a:solidFill>
                  <a:srgbClr val="000000"/>
                </a:solidFill>
                <a:latin typeface="Times New Roman"/>
              </a:rPr>
              <a:t>200000</a:t>
            </a:r>
            <a:r>
              <a:rPr b="0" lang="ar-EG" sz="2000" spc="-1" strike="noStrike">
                <a:solidFill>
                  <a:srgbClr val="000000"/>
                </a:solidFill>
                <a:latin typeface="Times New Roman"/>
              </a:rPr>
              <a:t>)* </a:t>
            </a:r>
            <a:r>
              <a:rPr b="0" lang="ar-SA" sz="2000" spc="-1" strike="noStrike">
                <a:solidFill>
                  <a:srgbClr val="000000"/>
                </a:solidFill>
                <a:latin typeface="Times New Roman"/>
              </a:rPr>
              <a:t>80</a:t>
            </a:r>
            <a:r>
              <a:rPr b="0" lang="ar-SA" sz="2000" spc="-1" strike="noStrike">
                <a:solidFill>
                  <a:srgbClr val="000000"/>
                </a:solidFill>
                <a:latin typeface="Times New Roman"/>
              </a:rPr>
              <a:t>% =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800100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التالية ل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عند ا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فى وقت تخفيض رأس الما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ئر التالية ل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خسائر تخفيض الأ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الخسائ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التى يتم إثباتها فى إحتياطيات المجموعة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6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ذ 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838080"/>
            <a:ext cx="853416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ثر على الميزان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 يتم تخفيضها بمبلغ</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ذف تكلفة الإستثمار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533520"/>
            <a:ext cx="8305920" cy="436284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التخلص من الشركات التابع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كون هناك عملية تخلص جوهرى </a:t>
            </a:r>
            <a:r>
              <a:rPr b="0" lang="ar-EG" sz="2000" spc="-1" strike="noStrike">
                <a:solidFill>
                  <a:srgbClr val="000000"/>
                </a:solidFill>
                <a:latin typeface="Times New Roman"/>
              </a:rPr>
              <a:t>(</a:t>
            </a:r>
            <a:r>
              <a:rPr b="0" lang="ar-SA" sz="2000" spc="-1" strike="noStrike">
                <a:solidFill>
                  <a:srgbClr val="000000"/>
                </a:solidFill>
                <a:latin typeface="Times New Roman"/>
              </a:rPr>
              <a:t>بيع جزء هام من الملكية) يجب ان تشتمل قائمة الدخل المجمعة على:</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حصة المناسبة من نتائج الشركة التابعة (الإيراد والربح) حتى تاريخ البيع ويكون من المناسب الإفصاح بشكل منفصل عن نتائج الشركة التابعة فى قائمة الدخل المجمعة بإعتبارها من العمليات غير المستمرة.</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مكاسب أو خسائر بيع الإستثمار الذى يمثل الفرق بين متحصلات البيع وحصة الشركة القابضة فى صافى اصول الشركة التابعة فى تاريخ البيع بالإضافة الى رصيد شهرة المحل فى ذلك التاريخ.</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1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قبل عملية التخلص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04920"/>
            <a:ext cx="83822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الميزانية المجمعة قبل عملية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تجميع = </a:t>
            </a:r>
            <a:r>
              <a:rPr b="0" lang="ar-SA" sz="2000" spc="-1" strike="noStrike">
                <a:solidFill>
                  <a:srgbClr val="000000"/>
                </a:solidFill>
                <a:latin typeface="Times New Roman"/>
              </a:rPr>
              <a:t>82.5</a:t>
            </a:r>
            <a:r>
              <a:rPr b="0" lang="ar-SA" sz="2000" spc="-1" strike="noStrike">
                <a:solidFill>
                  <a:srgbClr val="000000"/>
                </a:solidFill>
                <a:latin typeface="Times New Roman"/>
              </a:rPr>
              <a:t> جنيها – (</a:t>
            </a:r>
            <a:r>
              <a:rPr b="0" lang="ar-SA" sz="2000" spc="-1" strike="noStrike">
                <a:solidFill>
                  <a:srgbClr val="000000"/>
                </a:solidFill>
                <a:latin typeface="Times New Roman"/>
              </a:rPr>
              <a:t>60000</a:t>
            </a:r>
            <a:r>
              <a:rPr b="0" lang="ar-SA" sz="2000" spc="-1" strike="noStrike">
                <a:solidFill>
                  <a:srgbClr val="000000"/>
                </a:solidFill>
                <a:latin typeface="Times New Roman"/>
              </a:rPr>
              <a:t>+</a:t>
            </a:r>
            <a:r>
              <a:rPr b="0" lang="ar-SA" sz="2000" spc="-1" strike="noStrike">
                <a:solidFill>
                  <a:srgbClr val="000000"/>
                </a:solidFill>
                <a:latin typeface="Times New Roman"/>
              </a:rPr>
              <a:t>1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 المتنوعة = (</a:t>
            </a:r>
            <a:r>
              <a:rPr b="0" lang="ar-SA" sz="2000" spc="-1" strike="noStrike">
                <a:solidFill>
                  <a:srgbClr val="000000"/>
                </a:solidFill>
                <a:latin typeface="Times New Roman"/>
              </a:rPr>
              <a:t>257.5</a:t>
            </a:r>
            <a:r>
              <a:rPr b="0" lang="ar-SA" sz="2000" spc="-1" strike="noStrike">
                <a:solidFill>
                  <a:srgbClr val="000000"/>
                </a:solidFill>
                <a:latin typeface="Times New Roman"/>
              </a:rPr>
              <a:t> + </a:t>
            </a:r>
            <a:r>
              <a:rPr b="0" lang="ar-SA" sz="2000" spc="-1" strike="noStrike">
                <a:solidFill>
                  <a:srgbClr val="000000"/>
                </a:solidFill>
                <a:latin typeface="Times New Roman"/>
              </a:rPr>
              <a:t>1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 المصدرة – جنيه لل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1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5</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00</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3808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ارباح عند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a:t>
            </a:r>
            <a:r>
              <a:rPr b="1" lang="ar-EG" sz="2000" spc="-1" strike="noStrike">
                <a:solidFill>
                  <a:srgbClr val="000000"/>
                </a:solidFill>
                <a:latin typeface="Times New Roman"/>
              </a:rPr>
              <a:t>(</a:t>
            </a:r>
            <a:r>
              <a:rPr b="1" lang="ar-SA" sz="2000" spc="-1" strike="noStrike">
                <a:solidFill>
                  <a:srgbClr val="000000"/>
                </a:solidFill>
                <a:latin typeface="Times New Roman"/>
              </a:rPr>
              <a:t>أ) </a:t>
            </a:r>
            <a:r>
              <a:rPr b="0" lang="ar-SA" sz="2000" spc="-1" strike="noStrike">
                <a:solidFill>
                  <a:srgbClr val="000000"/>
                </a:solidFill>
                <a:latin typeface="Times New Roman"/>
              </a:rPr>
              <a:t>= </a:t>
            </a:r>
            <a:r>
              <a:rPr b="0" lang="ar-SA" sz="2000" spc="-1" strike="noStrike">
                <a:solidFill>
                  <a:srgbClr val="000000"/>
                </a:solidFill>
                <a:latin typeface="Times New Roman"/>
              </a:rPr>
              <a:t>11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3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a:t>
            </a:r>
            <a:r>
              <a:rPr b="1" lang="ar-EG" sz="2000" spc="-1" strike="noStrike">
                <a:solidFill>
                  <a:srgbClr val="000000"/>
                </a:solidFill>
                <a:latin typeface="Times New Roman"/>
              </a:rPr>
              <a:t>(</a:t>
            </a:r>
            <a:r>
              <a:rPr b="1" lang="ar-SA" sz="2000" spc="-1" strike="noStrike">
                <a:solidFill>
                  <a:srgbClr val="000000"/>
                </a:solidFill>
                <a:latin typeface="Times New Roman"/>
              </a:rPr>
              <a:t>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1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a:t>
            </a:r>
            <a:r>
              <a:rPr b="0" lang="ar-SA" sz="2000" spc="-1" strike="noStrike">
                <a:solidFill>
                  <a:srgbClr val="000000"/>
                </a:solidFill>
                <a:latin typeface="Times New Roman"/>
              </a:rPr>
              <a:t>1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 فى الارباح يمثل قيمة الارباح المرتبطة بالاسهم المباعة عن الفترة ما قبل البيع والتى تم إدراجها فى الإحتياطيات المجم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3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0</a:t>
            </a:r>
            <a:r>
              <a:rPr b="0" lang="ar-SA" sz="1800" spc="-1" strike="noStrike">
                <a:solidFill>
                  <a:srgbClr val="000000"/>
                </a:solidFill>
                <a:latin typeface="Times New Roman"/>
              </a:rPr>
              <a:t> سبتمبر </a:t>
            </a:r>
            <a:r>
              <a:rPr b="0" lang="ar-SA" sz="1800" spc="-1" strike="noStrike">
                <a:solidFill>
                  <a:srgbClr val="000000"/>
                </a:solidFill>
                <a:latin typeface="Times New Roman"/>
              </a:rPr>
              <a:t>2008</a:t>
            </a:r>
            <a:r>
              <a:rPr b="0" lang="ar-SA" sz="1800" spc="-1" strike="noStrike">
                <a:solidFill>
                  <a:srgbClr val="000000"/>
                </a:solidFill>
                <a:latin typeface="Times New Roman"/>
              </a:rPr>
              <a:t>. كما أن الشركة (أ) لم تقم بالمحاسبة عن التخلص ولديها شركة تابعة اخرى مملوكة بنسبة </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فيما يلى قوائم الدخل للشركتين (أ) و (ب) عن عام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228600"/>
            <a:ext cx="8610480" cy="68652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غييرات فى ملكية الشركة القابض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تاريخ التغيير فى تركيبة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تاريخ الذى تنضم فيه أو تنفصل فيه الشركة التابعة دائما ما يشير الى النقطة التى عندها يجب تطبيق معالجة محاسبية جديدة عن المنشاة ويكون التاريخ الملائم هو التاريخ الذى تنتقل فيه السيط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ذا التاريخ يجب ايضا ان يكون التاريخ الذى يبدأ فيه او ينتهى فيه إطلاق صفة الشركة القابضة أو الشركة التابعة على المنشاة طبقا لمتطلبات معيار المحاسبة الدولى (</a:t>
            </a:r>
            <a:r>
              <a:rPr b="0" lang="ar-SA" sz="2000" spc="-1" strike="noStrike">
                <a:solidFill>
                  <a:srgbClr val="000000"/>
                </a:solidFill>
                <a:latin typeface="Times New Roman"/>
              </a:rPr>
              <a:t>22</a:t>
            </a:r>
            <a:r>
              <a:rPr b="0" lang="ar-SA" sz="2000" spc="-1" strike="noStrike">
                <a:solidFill>
                  <a:srgbClr val="000000"/>
                </a:solidFill>
                <a:latin typeface="Times New Roman"/>
              </a:rPr>
              <a:t>) ومعيار المحاسبة الدولى (</a:t>
            </a:r>
            <a:r>
              <a:rPr b="0" lang="ar-SA" sz="2000" spc="-1" strike="noStrike">
                <a:solidFill>
                  <a:srgbClr val="000000"/>
                </a:solidFill>
                <a:latin typeface="Times New Roman"/>
              </a:rPr>
              <a:t>2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نتقل السيطرة عن طريق الإكتتاب العام فإن التاريخ الذى تنتقل فيه السيطرة هو التاريخ الذى يتم فيه إكتتاب عدد كافى من المكتتب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بدأ أو يتوقف إعتبار المنشاة شركة تابعة نتيجة لإصدار او إلغاء الاسهم يكون تاريخ إنتقال السيطرة هو تاريخ الإصدار او الإلغ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28600"/>
            <a:ext cx="838188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 والشركات التابعة الاخر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يراد</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مب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جمل الربح</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روفات إدار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اليف التوزيع</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مرحلة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اول المدة للا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آخر المدة ل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838080"/>
            <a:ext cx="85345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ربح الناتج عن البيع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أ)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عند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رصيد حتى بداية العام (</a:t>
            </a:r>
            <a:r>
              <a:rPr b="0" lang="ar-SA" sz="2000" spc="-1" strike="noStrike">
                <a:solidFill>
                  <a:srgbClr val="000000"/>
                </a:solidFill>
                <a:latin typeface="Times New Roman"/>
              </a:rPr>
              <a:t>60</a:t>
            </a:r>
            <a:r>
              <a:rPr b="0" lang="ar-SA" sz="2000" spc="-1" strike="noStrike">
                <a:solidFill>
                  <a:srgbClr val="000000"/>
                </a:solidFill>
                <a:latin typeface="Times New Roman"/>
              </a:rPr>
              <a:t> + </a:t>
            </a:r>
            <a:r>
              <a:rPr b="0" lang="ar-SA" sz="2000" spc="-1" strike="noStrike">
                <a:solidFill>
                  <a:srgbClr val="000000"/>
                </a:solidFill>
                <a:latin typeface="Times New Roman"/>
              </a:rPr>
              <a:t>14</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4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الربح حتى تاريخ التخلص (</a:t>
            </a:r>
            <a:r>
              <a:rPr b="0" lang="ar-SA" sz="2000" spc="-1" strike="noStrike">
                <a:solidFill>
                  <a:srgbClr val="000000"/>
                </a:solidFill>
                <a:latin typeface="Times New Roman"/>
              </a:rPr>
              <a:t>26</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95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صيب المجموعة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93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0125</a:t>
            </a:r>
            <a:r>
              <a:rPr b="0" lang="ar-EG" sz="2000" spc="-1" strike="noStrike">
                <a:solidFill>
                  <a:srgbClr val="000000"/>
                </a:solidFill>
                <a:latin typeface="Times New Roman"/>
              </a:rPr>
              <a:t>) </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ت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رباح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4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327560" y="3033720"/>
            <a:ext cx="3444840" cy="33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28600" y="228600"/>
            <a:ext cx="8610480" cy="6421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قائمة الدخل المجمعة للشركة (أ) عن السنة النالية المنتهية فى </a:t>
            </a:r>
            <a:r>
              <a:rPr b="1" lang="ar-SA" sz="1600" spc="-1" strike="noStrike">
                <a:solidFill>
                  <a:srgbClr val="000000"/>
                </a:solidFill>
                <a:latin typeface="Times New Roman"/>
              </a:rPr>
              <a:t>31</a:t>
            </a:r>
            <a:r>
              <a:rPr b="1" lang="ar-SA" sz="1600" spc="-1" strike="noStrike">
                <a:solidFill>
                  <a:srgbClr val="000000"/>
                </a:solidFill>
                <a:latin typeface="Times New Roman"/>
              </a:rPr>
              <a:t> ديسمبر </a:t>
            </a:r>
            <a:r>
              <a:rPr b="1" lang="ar-SA" sz="1600" spc="-1" strike="noStrike">
                <a:solidFill>
                  <a:srgbClr val="000000"/>
                </a:solidFill>
                <a:latin typeface="Times New Roman"/>
              </a:rPr>
              <a:t>2008</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بيان</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عمليات مستمرة</a:t>
            </a:r>
            <a:r>
              <a:rPr b="1" lang="ar-SA" sz="1600" spc="-1" strike="noStrike">
                <a:solidFill>
                  <a:srgbClr val="000000"/>
                </a:solidFill>
                <a:latin typeface="Times New Roman"/>
              </a:rPr>
              <a:t>	</a:t>
            </a:r>
            <a:r>
              <a:rPr b="1" lang="ar-SA" sz="1600" spc="-1" strike="noStrike">
                <a:solidFill>
                  <a:srgbClr val="000000"/>
                </a:solidFill>
                <a:latin typeface="Times New Roman"/>
              </a:rPr>
              <a:t>   عمليات غير 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الإجمالى</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إيرادات (</a:t>
            </a:r>
            <a:r>
              <a:rPr b="0" lang="ar-SA" sz="1600" spc="-1" strike="noStrike">
                <a:solidFill>
                  <a:srgbClr val="000000"/>
                </a:solidFill>
                <a:latin typeface="Times New Roman"/>
              </a:rPr>
              <a:t>20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5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مبيعات (</a:t>
            </a:r>
            <a:r>
              <a:rPr b="0" lang="ar-SA" sz="1600" spc="-1" strike="noStrike">
                <a:solidFill>
                  <a:srgbClr val="000000"/>
                </a:solidFill>
                <a:latin typeface="Times New Roman"/>
              </a:rPr>
              <a:t>12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8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جمل الربح</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1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7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صروفات إدارية (</a:t>
            </a:r>
            <a:r>
              <a:rPr b="0" lang="ar-SA" sz="1600" spc="-1" strike="noStrike">
                <a:solidFill>
                  <a:srgbClr val="000000"/>
                </a:solidFill>
                <a:latin typeface="Times New Roman"/>
              </a:rPr>
              <a:t>2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87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توزيع (</a:t>
            </a:r>
            <a:r>
              <a:rPr b="0" lang="ar-SA" sz="1600" spc="-1" strike="noStrike">
                <a:solidFill>
                  <a:srgbClr val="000000"/>
                </a:solidFill>
                <a:latin typeface="Times New Roman"/>
              </a:rPr>
              <a:t>1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12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2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بح العمليات</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على التخلص من العمليات غير ال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قبل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4875</a:t>
            </a:r>
            <a:r>
              <a:rPr b="1" lang="ar-SA" sz="1600" spc="-1" strike="noStrike">
                <a:solidFill>
                  <a:srgbClr val="000000"/>
                </a:solidFill>
                <a:latin typeface="Times New Roman"/>
              </a:rPr>
              <a:t>                                   </a:t>
            </a:r>
            <a:r>
              <a:rPr b="1" lang="ar-SA" sz="1600" spc="-1" strike="noStrike">
                <a:solidFill>
                  <a:srgbClr val="000000"/>
                </a:solidFill>
                <a:latin typeface="Times New Roman"/>
              </a:rPr>
              <a:t>12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ضرائب</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5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بعد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33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حقوق الاقلية (</a:t>
            </a:r>
            <a:r>
              <a:rPr b="0" lang="ar-SA" sz="1600" spc="-1" strike="noStrike">
                <a:solidFill>
                  <a:srgbClr val="000000"/>
                </a:solidFill>
                <a:latin typeface="Times New Roman"/>
              </a:rPr>
              <a:t>2600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عام</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8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توزيعات</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1"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ارباح المرحلة للعام التالى</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7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28600"/>
            <a:ext cx="8153280" cy="703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يضاحات المتممة للقوائم المالي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رباح المرحــــل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مجموع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عن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1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7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الأرباح اول المدة ل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يضاف : نصيب الشركة (أ) فى ارباح الشركة (ب) منذ تاريخ الإقتناء وحتى أول الم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 الإحتياطيات فى تاريخ البيع) *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أرباح الشركة (أ) </a:t>
            </a:r>
            <a:r>
              <a:rPr b="0" lang="ar-SA" sz="1800" spc="-1" strike="noStrike">
                <a:solidFill>
                  <a:srgbClr val="000000"/>
                </a:solidFill>
                <a:latin typeface="Times New Roman"/>
              </a:rPr>
              <a:t>29000</a:t>
            </a:r>
            <a:r>
              <a:rPr b="0" lang="ar-SA" sz="1800" spc="-1" strike="noStrike">
                <a:solidFill>
                  <a:srgbClr val="000000"/>
                </a:solidFill>
                <a:latin typeface="Times New Roman"/>
              </a:rPr>
              <a:t> جنيها + أرباح التخلص من الشركة التابعة </a:t>
            </a:r>
            <a:r>
              <a:rPr b="0" lang="ar-SA" sz="1800" spc="-1" strike="noStrike">
                <a:solidFill>
                  <a:srgbClr val="000000"/>
                </a:solidFill>
                <a:latin typeface="Times New Roman"/>
              </a:rPr>
              <a:t>52500</a:t>
            </a:r>
            <a:r>
              <a:rPr b="0" lang="ar-SA" sz="1800" spc="-1" strike="noStrike">
                <a:solidFill>
                  <a:srgbClr val="000000"/>
                </a:solidFill>
                <a:latin typeface="Times New Roman"/>
              </a:rPr>
              <a:t> جنيها = </a:t>
            </a:r>
            <a:r>
              <a:rPr b="0" lang="ar-SA" sz="1800" spc="-1" strike="noStrike">
                <a:solidFill>
                  <a:srgbClr val="000000"/>
                </a:solidFill>
                <a:latin typeface="Times New Roman"/>
              </a:rPr>
              <a:t>815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457200"/>
            <a:ext cx="853416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ثر الشهرة بالنسبة ل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الشهرة المحملة كعنصر دائ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 التى لا تلتزم بمعيير المحاسبة الدولية – يمكن ان تحمل الشهرة الناتجة عن التجميع كعنصر دائم فى الميزانية المجمعة حيث يسمح بالإحتفاظ بشهرة المحل بشكل غير محدد فى الميزانية بشرط أن تخضع لمراجعات سنوية لإحتمال إنخفاض قيمت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هرة المحل المستنفدة عبر الز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قا للمعيار المحاسبى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فإن الشهرة المشتراه يجب إستنفادها بشكل طبيعى من خلال قائمة الدخل. فإذا تم إستنفاد جزء فقط من شهرة المحل قبل التخلص من الشركة التابعة فإن ذلك الجزء سوف يمر فقط على قائمة الدخل والجزء المتبقى سوف يمر على قائمة الدخل كجزء من الارباح او الخسائر الناتجة عن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457200"/>
            <a:ext cx="8153640" cy="5632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شهرة المحل التى تقفل مباشرة فى الإحتياطي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التى لا تلتزم بمعايير المحاسبة الدولية يتم إقفال شهرة المحل الناتجة عن التجميع مباشرة عند الإقتناء فى الإحتياطيات. وفى هذه الحالة لا توجد شهرة محل يتم خصمها من خلال قائمة الدخل المجمع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لكى نمنع الشهرة المشتراه من عدم المرور من خلال قائمة الدخل المجمعة فإنه يجب تحديد الارباح او الخسائر الناتجة عن التخلص وذلك عن طريق إدراج المبلغ المرتبط بشهرة المحل المشتراه الذى تم حذفه فيما سبق من الإحتياطيات وذلك عن طريق القيد المحاسبى التالى:</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من حـ/ شهرة المحل</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الى حـ/ الإحتياط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228600"/>
            <a:ext cx="8610480" cy="65610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خلص الجزئى من شركة تابعة وتحويلها الى شركة شقيق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سيترتب على التخلص وتخفيض الملكية الى اقل من </a:t>
            </a:r>
            <a:r>
              <a:rPr b="0" lang="ar-SA" sz="1800" spc="-1" strike="noStrike">
                <a:solidFill>
                  <a:srgbClr val="000000"/>
                </a:solidFill>
                <a:latin typeface="Times New Roman"/>
              </a:rPr>
              <a:t>50</a:t>
            </a:r>
            <a:r>
              <a:rPr b="0" lang="ar-SA" sz="1800" spc="-1" strike="noStrike">
                <a:solidFill>
                  <a:srgbClr val="000000"/>
                </a:solidFill>
                <a:latin typeface="Times New Roman"/>
              </a:rPr>
              <a:t>% تجميع المجموعة حتى تاريخ التخلص وتخفيض الملكية وحساب اى ربح او خسارة كما سبق الإشارة اليه.</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69"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04920" y="5181480"/>
            <a:ext cx="861048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ثلث أسهم الشركة (أ) فى ا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35000</a:t>
            </a:r>
            <a:r>
              <a:rPr b="0" lang="ar-SA" sz="2000" spc="-1" strike="noStrike">
                <a:solidFill>
                  <a:srgbClr val="000000"/>
                </a:solidFill>
                <a:latin typeface="Times New Roman"/>
              </a:rPr>
              <a:t> جنيها ويتم إستنفاذ الشهرة بالكامل عند التجميع وقد بلغت إحتياطيات الشركة (جـ) فى اول يناير </a:t>
            </a:r>
            <a:r>
              <a:rPr b="0" lang="ar-SA" sz="2000" spc="-1" strike="noStrike">
                <a:solidFill>
                  <a:srgbClr val="000000"/>
                </a:solidFill>
                <a:latin typeface="Times New Roman"/>
              </a:rPr>
              <a:t>2009</a:t>
            </a:r>
            <a:r>
              <a:rPr b="0" lang="ar-SA" sz="2000" spc="-1" strike="noStrike">
                <a:solidFill>
                  <a:srgbClr val="000000"/>
                </a:solidFill>
                <a:latin typeface="Times New Roman"/>
              </a:rPr>
              <a:t> مبلغ </a:t>
            </a:r>
            <a:r>
              <a:rPr b="0" lang="ar-SA" sz="2000" spc="-1" strike="noStrike">
                <a:solidFill>
                  <a:srgbClr val="000000"/>
                </a:solidFill>
                <a:latin typeface="Times New Roman"/>
              </a:rPr>
              <a:t>2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1/3</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20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7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2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975</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25</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73" name=""/>
          <p:cNvGraphicFramePr/>
          <p:nvPr/>
        </p:nvGraphicFramePr>
        <p:xfrm>
          <a:off x="457200" y="1397160"/>
          <a:ext cx="8305920" cy="5027400"/>
        </p:xfrm>
        <a:graphic>
          <a:graphicData uri="http://schemas.openxmlformats.org/drawingml/2006/table">
            <a:tbl>
              <a:tblPr/>
              <a:tblGrid>
                <a:gridCol w="990720"/>
                <a:gridCol w="1066680"/>
                <a:gridCol w="1066680"/>
                <a:gridCol w="990720"/>
                <a:gridCol w="1066680"/>
                <a:gridCol w="312444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شقيقة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a:t>
                      </a:r>
                      <a:r>
                        <a:rPr b="1" lang="ar-SA" sz="2000" spc="-1" strike="noStrike">
                          <a:solidFill>
                            <a:srgbClr val="000000"/>
                          </a:solidFill>
                          <a:latin typeface="Times New Roman"/>
                        </a:rPr>
                        <a:t> / </a:t>
                      </a:r>
                      <a:r>
                        <a:rPr b="1" lang="ar-SA" sz="2000" spc="-1" strike="noStrike">
                          <a:solidFill>
                            <a:srgbClr val="000000"/>
                          </a:solidFill>
                          <a:latin typeface="Times New Roman"/>
                        </a:rPr>
                        <a:t>12</a:t>
                      </a:r>
                      <a:r>
                        <a:rPr b="1" lang="ar-SA" sz="2000" spc="-1" strike="noStrike">
                          <a:solidFill>
                            <a:srgbClr val="000000"/>
                          </a:solidFill>
                          <a:latin typeface="Times New Roman"/>
                        </a:rPr>
                        <a:t> * </a:t>
                      </a:r>
                      <a:r>
                        <a:rPr b="1"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7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65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 فى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77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8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3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3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9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762120"/>
            <a:ext cx="8458200" cy="436284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راء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 تجميع الشركة التابعة لأول مرة تستخدم طريقة الشر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التخلص من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رر الشركة القابضة خلال العام بيع كل او جزء من ملكيتها فى إحدى الشركات، وتشمل المواقف المحتملة على ما يل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كل الأسهم المحتفظ بها فى الشركة التابعة.</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مع بقاء ملكية تكفل السيطرة بعد البيع.</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 مع بقاء ملكية بعد البيع تكفل إما إستثمار فى شركة شقيقة أو إستثمار تجار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280" y="228600"/>
            <a:ext cx="8686800" cy="693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حاسبة عن عمليات التخلص الجزئى من الاسهم فى شركة تابعة متبق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غم أنه سيكون هناك ربحا عن عملية التخلص أو البيع إلا ان الشركة التابعة سيتم تجميعها عن كامل السنة وان نسبة الملكية هى التى سوف تتغير وليس موقف الشركة التابعة</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52280"/>
            <a:ext cx="8229600" cy="6531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75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دخل من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9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50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15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مجموع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56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31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8775</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27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235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3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1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77"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304920" y="5181480"/>
            <a:ext cx="86104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a:t>
            </a:r>
            <a:r>
              <a:rPr b="0" lang="ar-SA" sz="2000" spc="-1" strike="noStrike">
                <a:solidFill>
                  <a:srgbClr val="000000"/>
                </a:solidFill>
                <a:latin typeface="Times New Roman"/>
              </a:rPr>
              <a:t>5</a:t>
            </a:r>
            <a:r>
              <a:rPr b="0" lang="ar-SA" sz="2000" spc="-1" strike="noStrike">
                <a:solidFill>
                  <a:srgbClr val="000000"/>
                </a:solidFill>
                <a:latin typeface="Times New Roman"/>
              </a:rPr>
              <a:t>% فقط من الأسهم المصدرة ل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5/6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994</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6</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81" name=""/>
          <p:cNvGraphicFramePr/>
          <p:nvPr/>
        </p:nvGraphicFramePr>
        <p:xfrm>
          <a:off x="685800" y="1676520"/>
          <a:ext cx="7772400" cy="3497040"/>
        </p:xfrm>
        <a:graphic>
          <a:graphicData uri="http://schemas.openxmlformats.org/drawingml/2006/table">
            <a:tbl>
              <a:tblPr/>
              <a:tblGrid>
                <a:gridCol w="1219320"/>
                <a:gridCol w="1066680"/>
                <a:gridCol w="1143000"/>
                <a:gridCol w="1295280"/>
                <a:gridCol w="3048120"/>
              </a:tblGrid>
              <a:tr h="7671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1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3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5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58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9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
          <p:cNvSpPr/>
          <p:nvPr/>
        </p:nvSpPr>
        <p:spPr>
          <a:xfrm>
            <a:off x="3886200" y="5562720"/>
            <a:ext cx="41688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3/12</a:t>
            </a:r>
            <a:r>
              <a:rPr b="0" lang="ar-SA" sz="2000" spc="-1" strike="noStrike">
                <a:solidFill>
                  <a:srgbClr val="000000"/>
                </a:solidFill>
                <a:latin typeface="Times New Roman"/>
              </a:rPr>
              <a:t> = </a:t>
            </a:r>
            <a:r>
              <a:rPr b="0" lang="ar-SA" sz="2000" spc="-1" strike="noStrike">
                <a:solidFill>
                  <a:srgbClr val="000000"/>
                </a:solidFill>
                <a:latin typeface="Times New Roman"/>
              </a:rPr>
              <a:t>195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a:t>
            </a:r>
            <a:r>
              <a:rPr b="0" lang="ar-SA" sz="2000" spc="-1" strike="noStrike">
                <a:solidFill>
                  <a:srgbClr val="000000"/>
                </a:solidFill>
                <a:latin typeface="Times New Roman"/>
              </a:rPr>
              <a:t>45%</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  = </a:t>
            </a:r>
            <a:r>
              <a:rPr b="0" lang="ar-SA" sz="2000" spc="-1" strike="noStrike">
                <a:solidFill>
                  <a:srgbClr val="000000"/>
                </a:solidFill>
                <a:latin typeface="Times New Roman"/>
              </a:rPr>
              <a:t>958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609480"/>
            <a:ext cx="8229600" cy="5233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a:t>
            </a:r>
            <a:r>
              <a:rPr b="0" lang="ar-SA" sz="1400" spc="-1" strike="noStrike">
                <a:solidFill>
                  <a:srgbClr val="000000"/>
                </a:solidFill>
                <a:latin typeface="Times New Roman"/>
              </a:rPr>
              <a:t>735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35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931</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2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0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90680" y="228600"/>
            <a:ext cx="819612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لجة التوزيعات</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سداد التوزيعات قبل التخلص فيتم تخفيض صافى أصول الشركة التابعة بالسداد النقدى ، لذلك فكامل المبلغ يتم خصمه.</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توزيعات قد تم سدادها بعد التخلص أو تم فقط إقتراحها فلا يتم تخفيض صافى الاصول بمبلغ السداد النقدى قبل التخلص ، لذلك يتم تجاهل التوزيعات.</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ائمة الدخل الملخصة للشركة (أ) عن السنة المنتهية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يب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4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 فى إبري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قترحة فى نهاية السن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7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من العام السابق</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8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شترت الشركة (ب) </a:t>
            </a:r>
            <a:r>
              <a:rPr b="0" lang="ar-SA" sz="1800" spc="-1" strike="noStrike">
                <a:solidFill>
                  <a:srgbClr val="000000"/>
                </a:solidFill>
                <a:latin typeface="Times New Roman"/>
              </a:rPr>
              <a:t>80</a:t>
            </a:r>
            <a:r>
              <a:rPr b="0" lang="ar-SA" sz="1800" spc="-1" strike="noStrike">
                <a:solidFill>
                  <a:srgbClr val="000000"/>
                </a:solidFill>
                <a:latin typeface="Times New Roman"/>
              </a:rPr>
              <a:t>% من أسهم الشركة (أ) منذ أربعة سنوات عندما كان رأس مال الشركة (أ) يبلغ </a:t>
            </a:r>
            <a:r>
              <a:rPr b="0" lang="ar-SA" sz="1800" spc="-1" strike="noStrike">
                <a:solidFill>
                  <a:srgbClr val="000000"/>
                </a:solidFill>
                <a:latin typeface="Times New Roman"/>
              </a:rPr>
              <a:t>200000</a:t>
            </a:r>
            <a:r>
              <a:rPr b="0" lang="ar-SA" sz="1800" spc="-1" strike="noStrike">
                <a:solidFill>
                  <a:srgbClr val="000000"/>
                </a:solidFill>
                <a:latin typeface="Times New Roman"/>
              </a:rPr>
              <a:t> جنيها والإحتياطيات تبلغ </a:t>
            </a:r>
            <a:r>
              <a:rPr b="0" lang="ar-SA" sz="1800" spc="-1" strike="noStrike">
                <a:solidFill>
                  <a:srgbClr val="000000"/>
                </a:solidFill>
                <a:latin typeface="Times New Roman"/>
              </a:rPr>
              <a:t>250000</a:t>
            </a:r>
            <a:r>
              <a:rPr b="0" lang="ar-SA" sz="1800" spc="-1" strike="noStrike">
                <a:solidFill>
                  <a:srgbClr val="000000"/>
                </a:solidFill>
                <a:latin typeface="Times New Roman"/>
              </a:rPr>
              <a:t> جنيه. قامت الشركة (ب) بالتخلص من نصف ملكيتها فى الشركة (أ) فى </a:t>
            </a:r>
            <a:r>
              <a:rPr b="0" lang="ar-SA" sz="1800" spc="-1" strike="noStrike">
                <a:solidFill>
                  <a:srgbClr val="000000"/>
                </a:solidFill>
                <a:latin typeface="Times New Roman"/>
              </a:rPr>
              <a:t>1/7/2008</a:t>
            </a:r>
            <a:r>
              <a:rPr b="0" lang="ar-SA" sz="1800" spc="-1" strike="noStrike">
                <a:solidFill>
                  <a:srgbClr val="000000"/>
                </a:solidFill>
                <a:latin typeface="Times New Roman"/>
              </a:rPr>
              <a:t> مقابل </a:t>
            </a:r>
            <a:r>
              <a:rPr b="0" lang="ar-SA" sz="1800" spc="-1" strike="noStrike">
                <a:solidFill>
                  <a:srgbClr val="000000"/>
                </a:solidFill>
                <a:latin typeface="Times New Roman"/>
              </a:rPr>
              <a:t>4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 تحديد ربح التخلص للمجموعة بتجاهل كل من شهرة المحل والضرائ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304920"/>
            <a:ext cx="861084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سابات المجمعة للمجموعة (أ)</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8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الربح فى سن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9875</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نسب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000</a:t>
            </a:r>
            <a:r>
              <a:rPr b="0" lang="ar-SA" sz="1800" spc="-1" strike="noStrike">
                <a:solidFill>
                  <a:srgbClr val="000000"/>
                </a:solidFill>
                <a:latin typeface="Times New Roman"/>
              </a:rPr>
              <a:t>) جنيها</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مجموعة من التخلص من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رصيد أول المدة = </a:t>
            </a:r>
            <a:r>
              <a:rPr b="0" lang="ar-EG" sz="1800" spc="-1" strike="noStrike">
                <a:solidFill>
                  <a:srgbClr val="000000"/>
                </a:solidFill>
                <a:latin typeface="Times New Roman"/>
              </a:rPr>
              <a:t>580</a:t>
            </a:r>
            <a:r>
              <a:rPr b="0" lang="ar-EG" sz="1800" spc="-1" strike="noStrike">
                <a:solidFill>
                  <a:srgbClr val="000000"/>
                </a:solidFill>
                <a:latin typeface="Times New Roman"/>
              </a:rPr>
              <a:t> + </a:t>
            </a:r>
            <a:r>
              <a:rPr b="0" lang="ar-EG" sz="1800" spc="-1" strike="noStrike">
                <a:solidFill>
                  <a:srgbClr val="000000"/>
                </a:solidFill>
                <a:latin typeface="Times New Roman"/>
              </a:rPr>
              <a:t>200</a:t>
            </a:r>
            <a:r>
              <a:rPr b="0" lang="ar-EG" sz="1800" spc="-1" strike="noStrike">
                <a:solidFill>
                  <a:srgbClr val="000000"/>
                </a:solidFill>
                <a:latin typeface="Times New Roman"/>
              </a:rPr>
              <a:t> = </a:t>
            </a:r>
            <a:r>
              <a:rPr b="0" lang="ar-EG" sz="1800" spc="-1" strike="noStrike">
                <a:solidFill>
                  <a:srgbClr val="000000"/>
                </a:solidFill>
                <a:latin typeface="Times New Roman"/>
              </a:rPr>
              <a:t>7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a:t>
            </a:r>
            <a:r>
              <a:rPr b="0" lang="ar-EG" sz="1800" spc="-1" strike="noStrike">
                <a:solidFill>
                  <a:srgbClr val="000000"/>
                </a:solidFill>
                <a:latin typeface="Times New Roman"/>
              </a:rPr>
              <a:t>50000</a:t>
            </a:r>
            <a:r>
              <a:rPr b="0" lang="ar-EG" sz="1800" spc="-1" strike="noStrike">
                <a:solidFill>
                  <a:srgbClr val="000000"/>
                </a:solidFill>
                <a:latin typeface="Times New Roman"/>
              </a:rPr>
              <a:t> – </a:t>
            </a:r>
            <a:r>
              <a:rPr b="0" lang="ar-EG" sz="1800" spc="-1" strike="noStrike">
                <a:solidFill>
                  <a:srgbClr val="000000"/>
                </a:solidFill>
                <a:latin typeface="Times New Roman"/>
              </a:rPr>
              <a:t>240</a:t>
            </a:r>
            <a:r>
              <a:rPr b="0" lang="ar-EG" sz="1800" spc="-1" strike="noStrike">
                <a:solidFill>
                  <a:srgbClr val="000000"/>
                </a:solidFill>
                <a:latin typeface="Times New Roman"/>
              </a:rPr>
              <a:t>* ½ * </a:t>
            </a:r>
            <a:r>
              <a:rPr b="0" lang="ar-EG"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مبلغ الـ </a:t>
            </a:r>
            <a:r>
              <a:rPr b="0" lang="ar-SA" sz="1800" spc="-1" strike="noStrike">
                <a:solidFill>
                  <a:srgbClr val="000000"/>
                </a:solidFill>
                <a:latin typeface="Times New Roman"/>
              </a:rPr>
              <a:t>50000</a:t>
            </a:r>
            <a:r>
              <a:rPr b="0" lang="ar-SA" sz="1800" spc="-1" strike="noStrike">
                <a:solidFill>
                  <a:srgbClr val="000000"/>
                </a:solidFill>
                <a:latin typeface="Times New Roman"/>
              </a:rPr>
              <a:t> جنيها يمثل التوزيعات المسددة من الأرباح عن النصف الاول من العام وتم تجاهل التوزيعات المقترح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04920" y="838080"/>
            <a:ext cx="853416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ضرائـــ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ضرائب المستحقة على الأرباح فى دفاتر الشركة القابضة وليس الارباح فى حساب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حصلات الب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XX</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ربح</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 محسوبة كنسبة مضروفه فى إجمالى الربح</a:t>
            </a:r>
            <a:r>
              <a:rPr b="0" lang="en-US" sz="2000" spc="-1" strike="noStrike">
                <a:solidFill>
                  <a:srgbClr val="000000"/>
                </a:solidFill>
                <a:latin typeface="Times New Roman"/>
              </a:rPr>
              <a:t>	</a:t>
            </a:r>
            <a:r>
              <a:rPr b="0" lang="en-US" sz="2000" spc="-1" strike="noStrike">
                <a:solidFill>
                  <a:srgbClr val="000000"/>
                </a:solidFill>
                <a:latin typeface="Times New Roman"/>
              </a:rPr>
              <a:t>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بعد الضريبة</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928800"/>
            <a:ext cx="822960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مثال</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إشترت الشركة (أ) </a:t>
            </a:r>
            <a:r>
              <a:rPr b="0" lang="ar-EG" sz="2000" spc="-1" strike="noStrike">
                <a:solidFill>
                  <a:srgbClr val="000000"/>
                </a:solidFill>
                <a:latin typeface="Times New Roman"/>
              </a:rPr>
              <a:t>80</a:t>
            </a:r>
            <a:r>
              <a:rPr b="0" lang="ar-EG" sz="2000" spc="-1" strike="noStrike">
                <a:solidFill>
                  <a:srgbClr val="000000"/>
                </a:solidFill>
                <a:latin typeface="Times New Roman"/>
              </a:rPr>
              <a:t>% من رأس مال الأسهم العادية للشركة (ب) فى </a:t>
            </a:r>
            <a:r>
              <a:rPr b="0" lang="ar-EG" sz="2000" spc="-1" strike="noStrike">
                <a:solidFill>
                  <a:srgbClr val="000000"/>
                </a:solidFill>
                <a:latin typeface="Times New Roman"/>
              </a:rPr>
              <a:t>31/12/2004</a:t>
            </a:r>
            <a:r>
              <a:rPr b="0" lang="ar-EG" sz="2000" spc="-1" strike="noStrike">
                <a:solidFill>
                  <a:srgbClr val="000000"/>
                </a:solidFill>
                <a:latin typeface="Times New Roman"/>
              </a:rPr>
              <a:t> مقابل </a:t>
            </a:r>
            <a:r>
              <a:rPr b="0" lang="ar-EG" sz="2000" spc="-1" strike="noStrike">
                <a:solidFill>
                  <a:srgbClr val="000000"/>
                </a:solidFill>
                <a:latin typeface="Times New Roman"/>
              </a:rPr>
              <a:t>15000</a:t>
            </a:r>
            <a:r>
              <a:rPr b="0" lang="ar-EG" sz="2000" spc="-1" strike="noStrike">
                <a:solidFill>
                  <a:srgbClr val="000000"/>
                </a:solidFill>
                <a:latin typeface="Times New Roman"/>
              </a:rPr>
              <a:t> جنيها. وقد كان رأس مال وإحتياطيات الشركة فى ذلك التاريخ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 </a:t>
            </a:r>
            <a:r>
              <a:rPr b="0" lang="ar-EG" sz="2000" spc="-1" strike="noStrike">
                <a:solidFill>
                  <a:srgbClr val="000000"/>
                </a:solidFill>
                <a:latin typeface="Times New Roman"/>
              </a:rPr>
              <a:t>5000</a:t>
            </a:r>
            <a:r>
              <a:rPr b="0" lang="ar-EG"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إستنفاد شهرة المحل على مدار </a:t>
            </a:r>
            <a:r>
              <a:rPr b="0" lang="ar-EG" sz="2000" spc="-1" strike="noStrike">
                <a:solidFill>
                  <a:srgbClr val="000000"/>
                </a:solidFill>
                <a:latin typeface="Times New Roman"/>
              </a:rPr>
              <a:t>10</a:t>
            </a:r>
            <a:r>
              <a:rPr b="0" lang="ar-EG" sz="2000" spc="-1" strike="noStrike">
                <a:solidFill>
                  <a:srgbClr val="000000"/>
                </a:solidFill>
                <a:latin typeface="Times New Roman"/>
              </a:rPr>
              <a:t> سنوات من تاريخ الشراء. وفى </a:t>
            </a:r>
            <a:r>
              <a:rPr b="0" lang="ar-EG" sz="2000" spc="-1" strike="noStrike">
                <a:solidFill>
                  <a:srgbClr val="000000"/>
                </a:solidFill>
                <a:latin typeface="Times New Roman"/>
              </a:rPr>
              <a:t>31/12/2008</a:t>
            </a:r>
            <a:r>
              <a:rPr b="0" lang="ar-EG" sz="2000" spc="-1" strike="noStrike">
                <a:solidFill>
                  <a:srgbClr val="000000"/>
                </a:solidFill>
                <a:latin typeface="Times New Roman"/>
              </a:rPr>
              <a:t> باعت الشركة (أ) </a:t>
            </a:r>
            <a:r>
              <a:rPr b="0" lang="ar-EG" sz="2000" spc="-1" strike="noStrike">
                <a:solidFill>
                  <a:srgbClr val="000000"/>
                </a:solidFill>
                <a:latin typeface="Times New Roman"/>
              </a:rPr>
              <a:t>25</a:t>
            </a:r>
            <a:r>
              <a:rPr b="0" lang="ar-EG" sz="2000" spc="-1" strike="noStrike">
                <a:solidFill>
                  <a:srgbClr val="000000"/>
                </a:solidFill>
                <a:latin typeface="Times New Roman"/>
              </a:rPr>
              <a:t> % من ملكيتها فى الشركة (ب) مقابل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بلغ ربح الشركة (ب) بعد الضرائب عن عام </a:t>
            </a:r>
            <a:r>
              <a:rPr b="0" lang="ar-EG" sz="2000" spc="-1" strike="noStrike">
                <a:solidFill>
                  <a:srgbClr val="000000"/>
                </a:solidFill>
                <a:latin typeface="Times New Roman"/>
              </a:rPr>
              <a:t>2008</a:t>
            </a:r>
            <a:r>
              <a:rPr b="0" lang="ar-EG" sz="2000" spc="-1" strike="noStrike">
                <a:solidFill>
                  <a:srgbClr val="000000"/>
                </a:solidFill>
                <a:latin typeface="Times New Roman"/>
              </a:rPr>
              <a:t> مبلغ </a:t>
            </a:r>
            <a:r>
              <a:rPr b="0" lang="ar-EG" sz="2000" spc="-1" strike="noStrike">
                <a:solidFill>
                  <a:srgbClr val="000000"/>
                </a:solidFill>
                <a:latin typeface="Times New Roman"/>
              </a:rPr>
              <a:t>6000</a:t>
            </a:r>
            <a:r>
              <a:rPr b="0" lang="ar-EG" sz="2000" spc="-1" strike="noStrike">
                <a:solidFill>
                  <a:srgbClr val="000000"/>
                </a:solidFill>
                <a:latin typeface="Times New Roman"/>
              </a:rPr>
              <a:t> جنيها علما بأن الإحتياطيات فى بداية عام </a:t>
            </a:r>
            <a:r>
              <a:rPr b="0" lang="ar-EG" sz="2000" spc="-1" strike="noStrike">
                <a:solidFill>
                  <a:srgbClr val="000000"/>
                </a:solidFill>
                <a:latin typeface="Times New Roman"/>
              </a:rPr>
              <a:t>2008</a:t>
            </a:r>
            <a:r>
              <a:rPr b="0" lang="ar-EG" sz="2000" spc="-1" strike="noStrike">
                <a:solidFill>
                  <a:srgbClr val="000000"/>
                </a:solidFill>
                <a:latin typeface="Times New Roman"/>
              </a:rPr>
              <a:t> بلغت </a:t>
            </a:r>
            <a:r>
              <a:rPr b="0" lang="ar-EG" sz="2000" spc="-1" strike="noStrike">
                <a:solidFill>
                  <a:srgbClr val="000000"/>
                </a:solidFill>
                <a:latin typeface="Times New Roman"/>
              </a:rPr>
              <a:t>24000</a:t>
            </a:r>
            <a:r>
              <a:rPr b="0" lang="ar-EG"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مطلوب</a:t>
            </a:r>
            <a:r>
              <a:rPr b="0" lang="ar-EG" sz="2000" spc="-1" strike="noStrike">
                <a:solidFill>
                  <a:srgbClr val="000000"/>
                </a:solidFill>
                <a:latin typeface="Times New Roman"/>
              </a:rPr>
              <a:t> تحديد ما هى الأرباح او الخسائر الناتجة عن التخلص من الشركة (ب) والتى يجب إدراجها فى الحسابات المجمعة لعام </a:t>
            </a:r>
            <a:r>
              <a:rPr b="0" lang="ar-EG" sz="2000" spc="-1" strike="noStrike">
                <a:solidFill>
                  <a:srgbClr val="000000"/>
                </a:solidFill>
                <a:latin typeface="Times New Roman"/>
              </a:rPr>
              <a:t>2008</a:t>
            </a:r>
            <a:r>
              <a:rPr b="0" lang="ar-EG"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295280"/>
            <a:ext cx="845820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ابعا: المشاكل التى تسببها عملية الشراء التدريج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حدث الشراء التدريجى أو المرحلى عندما يتم شراء أسهم فى الشركة التابعة على مدار فترة زم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جب تحديد شهرة المحل بالرجوع الى كل شريحة مشتراه من أسهم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تم الاخذ فى الإعتبار القيمة العادلة للاصول فى كل عملية شراء ل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طلب معيار المحاسبة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أنه يجب معالجة كل عملية هامة بشكل منفصل بهدف تحديد القيم العادلة للأصول والإلتزامات المشتراه القابلة للتحديد وبهدف تحديد قيمة الشهرة عن تلك العم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80880"/>
            <a:ext cx="8153640" cy="5035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شهرة المحل المجم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a:t>
            </a:r>
            <a:r>
              <a:rPr b="0" lang="ar-SA" sz="2000" spc="-1" strike="noStrike">
                <a:solidFill>
                  <a:srgbClr val="000000"/>
                </a:solidFill>
                <a:latin typeface="Times New Roman"/>
              </a:rPr>
              <a:t> من صفافى الأصول المشتراه</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إستنفاد</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القيمة الدفترية ل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304920"/>
            <a:ext cx="861084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تخلص التى يتم إدراجها فى الحسابات المجمعة عام </a:t>
            </a:r>
            <a:r>
              <a:rPr b="1"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800</a:t>
            </a:r>
            <a:endParaRPr b="0" lang="en-US" sz="1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حصة فى الربح عن السنة حتى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6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8000</a:t>
            </a:r>
            <a:r>
              <a:rPr b="0" lang="ar-EG"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شهرة المحل لم تستنفد بعد ( </a:t>
            </a:r>
            <a:r>
              <a:rPr b="0" lang="ar-SA" sz="1800" spc="-1" strike="noStrike">
                <a:solidFill>
                  <a:srgbClr val="000000"/>
                </a:solidFill>
                <a:latin typeface="Times New Roman"/>
              </a:rPr>
              <a:t>1800</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50</a:t>
            </a:r>
            <a:r>
              <a:rPr b="0" lang="ar-SA" sz="1800" spc="-1" strike="noStrike">
                <a:solidFill>
                  <a:srgbClr val="000000"/>
                </a:solidFill>
                <a:latin typeface="Times New Roman"/>
              </a:rPr>
              <a:t>) جنيها</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5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533520"/>
            <a:ext cx="8382240" cy="5887440"/>
          </a:xfrm>
          <a:prstGeom prst="rect">
            <a:avLst/>
          </a:prstGeom>
          <a:noFill/>
          <a:ln w="0">
            <a:noFill/>
          </a:ln>
        </p:spPr>
        <p:style>
          <a:lnRef idx="0"/>
          <a:fillRef idx="0"/>
          <a:effectRef idx="0"/>
          <a:fontRef idx="minor"/>
        </p:style>
        <p:txBody>
          <a:bodyPr lIns="90000" rIns="90000" tIns="46800" bIns="46800" anchor="t">
            <a:spAutoFit/>
          </a:bodyPr>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شكال أخرى لإنتهاء تبعية الشركة التابعة لإحدى الشركات القابضة</a:t>
            </a:r>
            <a:endParaRPr b="0" lang="en-US" sz="2000" spc="-1" strike="noStrike">
              <a:solidFill>
                <a:srgbClr val="000000"/>
              </a:solidFill>
              <a:latin typeface="Times New Roman"/>
            </a:endParaRPr>
          </a:p>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صدر الشركة التابعة أسهم لأطراف ثالث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ا تحصل المجموعة على الاسهم المخصصة لها بموجب حقوق الإختيار سواء بصورة كلية أو بصورة جزئي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علن الشركة التابعة عن توزيعات أسهم ولا تقبلها الشركة القابض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يمارس طرف ثالث حقوق إختيار أو حقوق تحويل أو ضمانات إقتناء الاسهم.</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ؤدى هذه المواقف جميعا الى تخفيض ملكية الشركة القابضة فى الشركة التابعة بشكل فعال مما يؤدى الى التخلص الإعتبارى.</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بد أن يؤخذ فى الإعتبار ان موقف الشركة التابعة يعتمد على السيطرة وليس على نسبة الأسهم المملوكة من الشركة القابضة وعلى هذا فإنه من المحتمل أن يحدث التخلص دون أن تتغير بالفعل سيطرة الشركة القابضة.</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معالجة عمليات التخلص الإعتبارية بنفس الطريقة الخاصة بعمليات التخلص المباشرة حيث يتم تحديد الربح او الخسارة للمجموعة الناتجة عن عمليات التخلص بمقارنة نصيب المجموعة فى صافى أصول الشركة التابعة قبل التخلص مع نصيب المجموعة فى صافى أصول الشركة التابعة بعد التخل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33680" y="304920"/>
            <a:ext cx="60008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فيما يلى قوائم الدخل عن السنة المنته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8</a:t>
            </a:r>
            <a:endParaRPr b="0" lang="en-US" sz="2000" spc="-1" strike="noStrike">
              <a:solidFill>
                <a:srgbClr val="000000"/>
              </a:solidFill>
              <a:latin typeface="Times New Roman"/>
            </a:endParaRPr>
          </a:p>
        </p:txBody>
      </p:sp>
      <p:graphicFrame>
        <p:nvGraphicFramePr>
          <p:cNvPr id="92" name=""/>
          <p:cNvGraphicFramePr/>
          <p:nvPr/>
        </p:nvGraphicFramePr>
        <p:xfrm>
          <a:off x="762120" y="990720"/>
          <a:ext cx="7772400" cy="2819160"/>
        </p:xfrm>
        <a:graphic>
          <a:graphicData uri="http://schemas.openxmlformats.org/drawingml/2006/table">
            <a:tbl>
              <a:tblPr/>
              <a:tblGrid>
                <a:gridCol w="1447560"/>
                <a:gridCol w="1524240"/>
                <a:gridCol w="1600200"/>
                <a:gridCol w="3200400"/>
              </a:tblGrid>
              <a:tr h="4593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1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6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6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زيعات 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مرحلة عن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04920" y="4129200"/>
            <a:ext cx="8534160" cy="283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تمتلك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ب) و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جـ) من البداية، و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كان لدى كل من الشركتين التابعتين رأس مال مصدر ي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8</a:t>
            </a:r>
            <a:r>
              <a:rPr b="0" lang="ar-SA" sz="2000" spc="-1" strike="noStrike">
                <a:solidFill>
                  <a:srgbClr val="000000"/>
                </a:solidFill>
                <a:latin typeface="Times New Roman"/>
              </a:rPr>
              <a:t> أصدرت الشركة (جـ) </a:t>
            </a:r>
            <a:r>
              <a:rPr b="0" lang="ar-SA" sz="2000" spc="-1" strike="noStrike">
                <a:solidFill>
                  <a:srgbClr val="000000"/>
                </a:solidFill>
                <a:latin typeface="Times New Roman"/>
              </a:rPr>
              <a:t>100000</a:t>
            </a:r>
            <a:r>
              <a:rPr b="0" lang="ar-SA" sz="2000" spc="-1" strike="noStrike">
                <a:solidFill>
                  <a:srgbClr val="000000"/>
                </a:solidFill>
                <a:latin typeface="Times New Roman"/>
              </a:rPr>
              <a:t> سهم عادى  بقيمة إسمية واحد جنيه لأطراف ثالثة مقابل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إحتياطيات الشركة (جـ) 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مبلغ </a:t>
            </a:r>
            <a:r>
              <a:rPr b="0" lang="ar-SA" sz="2000" spc="-1" strike="noStrike">
                <a:solidFill>
                  <a:srgbClr val="000000"/>
                </a:solidFill>
                <a:latin typeface="Times New Roman"/>
              </a:rPr>
              <a:t>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ستنفاد شهرة المحل الناشئة عن التجميع بالكامل على سن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إعداد قائمة الدخل المجمعة عن السنة المنتهية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8</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152280"/>
            <a:ext cx="8610840" cy="63410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أولى : تحديد ربح أو خسارة التخل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الأخذ فى الإعتبار أن الشركة (أ) لم تحصل على اى مقابل للتخلص لذلك فليس هناك ربح او خسارة من التخلص الفعلى. ويتم تحديد ربح او خسارة المجموعة من التخلص الإعتبارى على النحو التال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 قبل التخلص الإعتبا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حتى التخلص (</a:t>
            </a:r>
            <a:r>
              <a:rPr b="0" lang="ar-SA" sz="1800" spc="-1" strike="noStrike">
                <a:solidFill>
                  <a:srgbClr val="000000"/>
                </a:solidFill>
                <a:latin typeface="Times New Roman"/>
              </a:rPr>
              <a:t>39000</a:t>
            </a:r>
            <a:r>
              <a:rPr b="0" lang="ar-SA" sz="1800" spc="-1" strike="noStrike">
                <a:solidFill>
                  <a:srgbClr val="000000"/>
                </a:solidFill>
                <a:latin typeface="Times New Roman"/>
              </a:rPr>
              <a:t> * </a:t>
            </a:r>
            <a:r>
              <a:rPr b="0" lang="ar-SA" sz="1800" spc="-1" strike="noStrike">
                <a:solidFill>
                  <a:srgbClr val="000000"/>
                </a:solidFill>
                <a:latin typeface="Times New Roman"/>
              </a:rPr>
              <a:t>3/12</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75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80%</a:t>
            </a:r>
            <a:r>
              <a:rPr b="0" lang="ar-SA" sz="1800" spc="-1" strike="noStrike">
                <a:solidFill>
                  <a:srgbClr val="000000"/>
                </a:solidFill>
                <a:latin typeface="Times New Roman"/>
              </a:rPr>
              <a:t>	</a:t>
            </a:r>
            <a:r>
              <a:rPr b="0" lang="ar-SA" sz="1800" spc="-1" strike="noStrike">
                <a:solidFill>
                  <a:srgbClr val="000000"/>
                </a:solidFill>
                <a:latin typeface="Times New Roman"/>
              </a:rPr>
              <a:t>1278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أصول بعد التخلص مباش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1039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خسار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39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219320" y="228600"/>
            <a:ext cx="77054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96" name=""/>
          <p:cNvGraphicFramePr/>
          <p:nvPr/>
        </p:nvGraphicFramePr>
        <p:xfrm>
          <a:off x="228600" y="685800"/>
          <a:ext cx="8610480" cy="5451480"/>
        </p:xfrm>
        <a:graphic>
          <a:graphicData uri="http://schemas.openxmlformats.org/drawingml/2006/table">
            <a:tbl>
              <a:tblPr/>
              <a:tblGrid>
                <a:gridCol w="1262160"/>
                <a:gridCol w="965160"/>
                <a:gridCol w="965160"/>
                <a:gridCol w="963720"/>
                <a:gridCol w="1039680"/>
                <a:gridCol w="3414600"/>
              </a:tblGrid>
              <a:tr h="15228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جمع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شقيقة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a:t>
                      </a:r>
                      <a:r>
                        <a:rPr b="1" lang="ar-SA" sz="1800" spc="-1" strike="noStrike">
                          <a:solidFill>
                            <a:srgbClr val="000000"/>
                          </a:solidFill>
                          <a:latin typeface="Times New Roman"/>
                        </a:rPr>
                        <a:t> / </a:t>
                      </a:r>
                      <a:r>
                        <a:rPr b="1" lang="ar-SA" sz="1800" spc="-1" strike="noStrike">
                          <a:solidFill>
                            <a:srgbClr val="000000"/>
                          </a:solidFill>
                          <a:latin typeface="Times New Roman"/>
                        </a:rPr>
                        <a:t>12</a:t>
                      </a:r>
                      <a:r>
                        <a:rPr b="1" lang="ar-SA" sz="1800" spc="-1" strike="noStrike">
                          <a:solidFill>
                            <a:srgbClr val="000000"/>
                          </a:solidFill>
                          <a:latin typeface="Times New Roman"/>
                        </a:rPr>
                        <a:t> * </a:t>
                      </a: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ابع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12</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75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a:t>
                      </a:r>
                      <a:r>
                        <a:rPr b="0" lang="ar-SA" sz="1800" spc="-1" strike="noStrike">
                          <a:solidFill>
                            <a:srgbClr val="000000"/>
                          </a:solidFill>
                          <a:latin typeface="Times New Roman"/>
                        </a:rPr>
                        <a:t>4500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93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31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6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70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فى الضرائب</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54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7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بعد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سبة 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35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7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5594400" y="6248520"/>
            <a:ext cx="272736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نسبة الضريبة للشركة الشقيقة </a:t>
            </a:r>
            <a:r>
              <a:rPr b="0" lang="ar-SA" sz="1600" spc="-1" strike="noStrike">
                <a:solidFill>
                  <a:srgbClr val="000000"/>
                </a:solidFill>
                <a:latin typeface="Times New Roman"/>
              </a:rPr>
              <a:t>35</a:t>
            </a:r>
            <a:r>
              <a:rPr b="0" lang="ar-SA"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686800" cy="6575400"/>
          </a:xfrm>
          <a:prstGeom prst="rect">
            <a:avLst/>
          </a:prstGeom>
          <a:noFill/>
          <a:ln w="0">
            <a:noFill/>
          </a:ln>
        </p:spPr>
        <p:style>
          <a:lnRef idx="0"/>
          <a:fillRef idx="0"/>
          <a:effectRef idx="0"/>
          <a:fontRef idx="minor"/>
        </p:style>
        <p:txBody>
          <a:bodyPr lIns="90000" rIns="90000" tIns="46800" bIns="46800" anchor="t">
            <a:spAutoFit/>
          </a:bodyPr>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خطوة الثالثة: إعداد قائمة الدخل المجمعة عن عام </a:t>
            </a:r>
            <a:r>
              <a:rPr b="1" lang="ar-SA" sz="1500" spc="-1" strike="noStrike">
                <a:solidFill>
                  <a:srgbClr val="000000"/>
                </a:solidFill>
                <a:latin typeface="Times New Roman"/>
              </a:rPr>
              <a:t>2008</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قبل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75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دخل من الشرك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خسائر على التخلص من العمليات المستمر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239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691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ضريبة</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مجموع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312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ص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63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375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بعد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2315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قوق الاقلي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9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ربح المرتبط بالمجموعة</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22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توزيعات المسدد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400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ارباح المرحلة للعام التالى</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228600"/>
            <a:ext cx="8534160" cy="695196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غييرات فى الهيكل الداخلى للمجموع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سباب تغيير المجموعات لهياكلها الداخلي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ن الهيكل الداخلى للمجموعة هو عدد الشركات و / أو الأقسام التى توجد وكذا العلاقات القانونية والمحاسبية وعلاقات التقرير بين الشركات والاقسام.</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يشير الهيكل القانونى الى الطريقة التى تفضلها المجموعة فى ادارة اجمالى العمليات والطريقة التى تستخدمها الاقسام الفردية فى التقرير عن معاملاتها، لذلك فالجموعة تاخذ الشكل الهرمى كما يلى:</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أ)</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د)</a:t>
            </a:r>
            <a:endParaRPr b="0" lang="en-US" sz="1800" spc="-1" strike="noStrike">
              <a:solidFill>
                <a:srgbClr val="000000"/>
              </a:solidFill>
              <a:latin typeface="Times New Roman"/>
            </a:endParaRPr>
          </a:p>
          <a:p>
            <a:pPr marL="119160" indent="-119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هـ)</a:t>
            </a:r>
            <a:r>
              <a:rPr b="0" lang="ar-SA" sz="1800" spc="-1" strike="noStrike">
                <a:solidFill>
                  <a:srgbClr val="000000"/>
                </a:solidFill>
                <a:latin typeface="Times New Roman"/>
              </a:rPr>
              <a:t>	</a:t>
            </a:r>
            <a:r>
              <a:rPr b="0" lang="ar-SA" sz="1800" spc="-1" strike="noStrike">
                <a:solidFill>
                  <a:srgbClr val="000000"/>
                </a:solidFill>
                <a:latin typeface="Times New Roman"/>
              </a:rPr>
              <a:t>(و)</a:t>
            </a:r>
            <a:r>
              <a:rPr b="0" lang="ar-SA" sz="1800" spc="-1" strike="noStrike">
                <a:solidFill>
                  <a:srgbClr val="000000"/>
                </a:solidFill>
                <a:latin typeface="Times New Roman"/>
              </a:rPr>
              <a:t>	</a:t>
            </a:r>
            <a:r>
              <a:rPr b="0" lang="ar-SA" sz="1800" spc="-1" strike="noStrike">
                <a:solidFill>
                  <a:srgbClr val="000000"/>
                </a:solidFill>
                <a:latin typeface="Times New Roman"/>
              </a:rPr>
              <a:t>(ز)</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شركات فى المستوى  الادنى هى شركات تابعة للشركة التابعة (د) وتقوم بالتقرير للمستوى التالى وهى الشركة (د) التى تقوم بالتالى بالتقرير للشركة القابضة (أ). ومن المعروف ان هذا الشكل يدعم فعالية الإدارة.</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0" name=""/>
          <p:cNvSpPr/>
          <p:nvPr/>
        </p:nvSpPr>
        <p:spPr>
          <a:xfrm>
            <a:off x="4952880" y="3124080"/>
            <a:ext cx="1524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528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3352320" y="3124080"/>
            <a:ext cx="1600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96252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2408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2209680" y="396252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380880"/>
            <a:ext cx="8382240" cy="695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فضل المجموعات الاخرى هيكل تنظيمى أفقى مع احتمال تخفيض عدد الشركات التابعة وبالتالى يكون معظم الشركات التابعة مملوك مباشرة بواسطة الشركة القابض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عتقد فى بعض الاحوال ضرورة إجراء التغييرات فى الهيكل القانونى للمجموعة نتيجة التغييرات فى الإدارة على قمة المجموعة أو التغييرات فى البيئة التشغيلية للمجموعة أو لأسباب ضريبية حيث يمكن أن يتأثر إجمالى الضرائب التى تتحملها المجموعة بهيكلها القانونى أو نتيجة القوانين المح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آثار التغييرات فى الملكية المباشرة للشركات التابع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ألا يؤدى إعادة تنظيم المجموعة الى تغييرات فى القوائم المالية المجمعة.  حيث يتم إعادة التنظيم بتحويل الأسهم المملوكة من إحدى شركات المجموعة الى شركة اخرى ولا يتم التخلص أو إضافة أصول الى المجموعة نتيجة لذلك.</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لغاء الإندماج</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لغاء الإندماج هو تفتيت للمجموعة الى جزئين أو اكثر كل منها يستمر مملوك من قبلة حملة اسهمه الاصليين لكن بدون علاقة قانونية بالأجزاء الاخرى السابقة للمجموعة. وتعد عملية إلغاء الإندماج شكل من أشكال إعادة الهيكلة الداخلية للمجموعة لتصبح مجموعتين. ومن وجهة نظر حملة الاسهم فإنها تمثل عملية إعادة هيكلة فعلية حيث يحتفظ حملة الاسهم بنفس حقوق الملكية الفعالة فى المجموعتين كما لو أنهم فى المجموعة الاص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سبب الرئيسى الذى يبرر عملية الإندماج هو تحسين القيمة لحملة الاسهم من وجهة نظر المديرين الذين يتخذون القرار فى ضوء قيام سوق الاوراق المالية بتقييم أكبر للمجموعتين. كما يكون إلغاء الإندماج بسبب منع السيطرة والإحتكار من المجموع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571680"/>
            <a:ext cx="861048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عداد القوائم المالية بعد إلغاء الإندماج</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قدم المجموعة بعض أصولها (الإستثمارات فى الشركات التابعة) الى حملة الاسهم عن طريق توزيع ملكيتها عليهم وقد يتم ذلك مباشرة أو من خلال وساطة شركة اخرى ويكون الاثر النهائى واحد على حملة الاسهم.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قبل إلغاء الإندماج</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بعد الإلغاء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جـ)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قيد بدفاتر الشركة القابضة (سداد توزيعات فى شكل أسهم بدلا من نقدي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من حـ/ التوزيعات المدفوع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ى حـ/ تكلفة الأستثمار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يتم القيد بالقيمة الدفترية المحتملة للإستثمار)</a:t>
            </a:r>
            <a:endParaRPr b="0" lang="en-US" sz="1800" spc="-1" strike="noStrike">
              <a:solidFill>
                <a:srgbClr val="000000"/>
              </a:solidFill>
              <a:latin typeface="Times New Roman"/>
            </a:endParaRPr>
          </a:p>
        </p:txBody>
      </p:sp>
      <p:sp>
        <p:nvSpPr>
          <p:cNvPr id="108" name=""/>
          <p:cNvSpPr/>
          <p:nvPr/>
        </p:nvSpPr>
        <p:spPr>
          <a:xfrm>
            <a:off x="586728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867280" y="3429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28954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523880" y="28195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33520"/>
            <a:ext cx="838188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إشترت الشركة (أ) </a:t>
            </a:r>
            <a:r>
              <a:rPr b="0" lang="ar-SA" sz="1800" spc="-1" strike="noStrike">
                <a:solidFill>
                  <a:srgbClr val="000000"/>
                </a:solidFill>
                <a:latin typeface="Times New Roman"/>
              </a:rPr>
              <a:t>80</a:t>
            </a:r>
            <a:r>
              <a:rPr b="0" lang="ar-SA" sz="1800" spc="-1" strike="noStrike">
                <a:solidFill>
                  <a:srgbClr val="000000"/>
                </a:solidFill>
                <a:latin typeface="Times New Roman"/>
              </a:rPr>
              <a:t>% من اسهم الشركة (ب) على مدار عدد من السنوات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المشترا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قيمة العادلة لصافى اصول 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مقابل الشراء المدفوع</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100%</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قد كانت الميزانية للشركة المستثمر فيها فى تاريخ التجميع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ــاف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47560"/>
            <a:ext cx="8534160" cy="619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a:t>
            </a:r>
            <a:r>
              <a:rPr b="0" lang="ar-SA" sz="2000" spc="-1" strike="noStrike">
                <a:solidFill>
                  <a:srgbClr val="000000"/>
                </a:solidFill>
                <a:latin typeface="Times New Roman"/>
              </a:rPr>
              <a:t>) قد تؤسس شركة جديدة وتصدر الاسهم لحملة الاسهم فى المجموعة القائمة ويتم تحويل الإستثمار (أو الشركة التابعة) الى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حملة الا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بل إلغاء الإندماج</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a:t>
            </a:r>
            <a:r>
              <a:rPr b="0" lang="ar-SA" sz="2000" spc="-1" strike="noStrike">
                <a:solidFill>
                  <a:srgbClr val="000000"/>
                </a:solidFill>
                <a:latin typeface="Times New Roman"/>
              </a:rPr>
              <a:t>	</a:t>
            </a:r>
            <a:r>
              <a:rPr b="0" lang="ar-SA" sz="2000" spc="-1" strike="noStrike">
                <a:solidFill>
                  <a:srgbClr val="000000"/>
                </a:solidFill>
                <a:latin typeface="Times New Roman"/>
              </a:rPr>
              <a:t>   بعد الإلغ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فى الشركة القابضة يتم معالجة العملية بنفس الطريقة الخاصة بالتوزيع المباشر (سداد توزيعات لحملة الاسهم) وتكون بقيمتها العادلة للقيمة الدفترية لصافى الاصول المحولة للشركة الجديدة أو تكلفة الإستثمار فى الشركة التابعة التى يتم تحويلها.</a:t>
            </a: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5638680" y="22096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638680" y="3429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2767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4479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447920" y="3962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457200"/>
            <a:ext cx="800100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ثا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الميزانية المجمعة الملخصة للمجموعة (أ) بالإضافة الى الميزانية الفردية للشركة (ب) وشركتها التابعة (جـ) المملوكة بالكامل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6</a:t>
            </a:r>
            <a:r>
              <a:rPr b="0" lang="ar-SA"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19" name=""/>
          <p:cNvGraphicFramePr/>
          <p:nvPr/>
        </p:nvGraphicFramePr>
        <p:xfrm>
          <a:off x="685800" y="1676520"/>
          <a:ext cx="8077320" cy="3200400"/>
        </p:xfrm>
        <a:graphic>
          <a:graphicData uri="http://schemas.openxmlformats.org/drawingml/2006/table">
            <a:tbl>
              <a:tblPr/>
              <a:tblGrid>
                <a:gridCol w="1600200"/>
                <a:gridCol w="1600200"/>
                <a:gridCol w="1676520"/>
                <a:gridCol w="3200400"/>
              </a:tblGrid>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جـ)</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ستثمار فى (جـ)</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اخر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رباح المحتجز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228600" y="5143680"/>
            <a:ext cx="8550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a:t>
            </a:r>
            <a:r>
              <a:rPr b="0" lang="ar-SA" sz="1800" spc="-1" strike="noStrike">
                <a:solidFill>
                  <a:srgbClr val="000000"/>
                </a:solidFill>
                <a:latin typeface="Times New Roman"/>
              </a:rPr>
              <a:t>1/1/2007</a:t>
            </a:r>
            <a:r>
              <a:rPr b="0" lang="ar-SA" sz="1800" spc="-1" strike="noStrike">
                <a:solidFill>
                  <a:srgbClr val="000000"/>
                </a:solidFill>
                <a:latin typeface="Times New Roman"/>
              </a:rPr>
              <a:t> كونت الشركة (أ) شركة جديدة (د) وأصدرت الشركة (د) </a:t>
            </a:r>
            <a:r>
              <a:rPr b="0" lang="ar-SA" sz="1800" spc="-1" strike="noStrike">
                <a:solidFill>
                  <a:srgbClr val="000000"/>
                </a:solidFill>
                <a:latin typeface="Times New Roman"/>
              </a:rPr>
              <a:t>800000</a:t>
            </a:r>
            <a:r>
              <a:rPr b="0" lang="ar-SA" sz="1800" spc="-1" strike="noStrike">
                <a:solidFill>
                  <a:srgbClr val="000000"/>
                </a:solidFill>
                <a:latin typeface="Times New Roman"/>
              </a:rPr>
              <a:t> سهم عادى بقيمة إسمية واحد جنيه للسهم وذلك الى حملة الاسهم فى الشركة (ب) مقابل إستثمار الشركة (ب) فى الشركة (جـ) لدرجة أنه تم إلغاء إندماج الشركة (ج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لخصة للشركة (أ) والمجموعة (أ) مباشرة بعد الإلغاء.</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776160"/>
            <a:ext cx="868680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قامت بشكل فعال بتوزيع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على حملة أسهمها وقد تم تخفيض صافى اصول المجموعة بمبلغ </a:t>
            </a:r>
            <a:r>
              <a:rPr b="0" lang="ar-SA" sz="2000" spc="-1" strike="noStrike">
                <a:solidFill>
                  <a:srgbClr val="000000"/>
                </a:solidFill>
                <a:latin typeface="Times New Roman"/>
              </a:rPr>
              <a:t>1400000</a:t>
            </a:r>
            <a:r>
              <a:rPr b="0" lang="ar-SA" sz="2000" spc="-1" strike="noStrike">
                <a:solidFill>
                  <a:srgbClr val="000000"/>
                </a:solidFill>
                <a:latin typeface="Times New Roman"/>
              </a:rPr>
              <a:t> جنيها وصافى أصول الشركة (أ) بمبلغ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ومن ثم يتم الإفصاح عن هذا التخفيض كحركة على الأرباح المحتجزة.</a:t>
            </a:r>
            <a:endParaRPr b="0" lang="en-US" sz="2000" spc="-1" strike="noStrike">
              <a:solidFill>
                <a:srgbClr val="000000"/>
              </a:solidFill>
              <a:latin typeface="Times New Roman"/>
            </a:endParaRPr>
          </a:p>
        </p:txBody>
      </p:sp>
      <p:graphicFrame>
        <p:nvGraphicFramePr>
          <p:cNvPr id="122" name=""/>
          <p:cNvGraphicFramePr/>
          <p:nvPr/>
        </p:nvGraphicFramePr>
        <p:xfrm>
          <a:off x="685800" y="2666880"/>
          <a:ext cx="8229600" cy="3200400"/>
        </p:xfrm>
        <a:graphic>
          <a:graphicData uri="http://schemas.openxmlformats.org/drawingml/2006/table">
            <a:tbl>
              <a:tblPr/>
              <a:tblGrid>
                <a:gridCol w="1752480"/>
                <a:gridCol w="1981080"/>
                <a:gridCol w="4496040"/>
              </a:tblGrid>
              <a:tr h="53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أ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المرحلة قبل الإلغ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غاء الإندماج</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04920" y="838080"/>
            <a:ext cx="8534160" cy="4789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400" spc="-1" strike="noStrike">
                <a:solidFill>
                  <a:srgbClr val="000000"/>
                </a:solidFill>
                <a:latin typeface="Times New Roman"/>
              </a:rPr>
              <a:t>التقســـــــيم</a:t>
            </a: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قسيم هو تحويل اصول واعمال عدد من الشركات التابعة الى شركة واحدة، وقد يتم تنفيذ التقسيم بتبسيط هيكل المجموعة وتوفير التكاليف عن طريق قيام إحدى الشركات التابعة بشراء شركة اخرى مقابل النقدية وبالتالى قد تصبح الشركة المشتراه شركة غير فعالة.</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نتيجة التقسيم قد يصبح إستثمار المجموعة فى الشركة المشتراه متدهور ويحتاج الى تخفيض قيمته وخاصة إذا كانت هناك شهرة عند الإقتناء الاصلى، كما قد تظهر مشكلة أخرى عندما تتخلى الشركة المشتراه عن نشاطها ويتم الشراء بدون مقابل نقدى مما يعنى وجود معاملة متبادلة بين شركات المجموعة يتعين إستبعادها عند تجميع القوائم المالية.</a:t>
            </a:r>
            <a:endParaRPr b="0" lang="en-US" sz="2000" spc="-1" strike="noStrike">
              <a:solidFill>
                <a:srgbClr val="000000"/>
              </a:solidFill>
              <a:latin typeface="Times New Roman"/>
            </a:endParaRPr>
          </a:p>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533520"/>
            <a:ext cx="8153280" cy="649728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طرق البديلة للمحاسبة عن المجموعات</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تحت مفهوم الوحدة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تم إعداد القوائم المالية المجمعة عن طريق إحلال تكلفة الإستثمار بالأصول والإلتزامات المرتبطة بذلك الإستثمار، وعندما تكون الشركة مملوكة جزئيا للشركة القابضة تظهر الحاجة الى إظهار حقوق الاقلية فى صافى تلك الأصول.</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ركز مفهوم الوحدة على وجود المجموعة كوحدة إقتصادية بدلا من النظر اليها فقط من خلال نظرة الملاك المسيطرين وهو بالتالى يركز على الموارد المسيطر علي</a:t>
            </a:r>
            <a:r>
              <a:rPr b="0" lang="ar-EG" sz="2000" spc="-1" strike="noStrike">
                <a:solidFill>
                  <a:srgbClr val="000000"/>
                </a:solidFill>
                <a:latin typeface="Times New Roman"/>
                <a:cs typeface="Times New Roman (Arabic)"/>
              </a:rPr>
              <a:t>ه</a:t>
            </a:r>
            <a:r>
              <a:rPr b="0" lang="ar-SA" sz="2000" spc="-1" strike="noStrike">
                <a:solidFill>
                  <a:srgbClr val="000000"/>
                </a:solidFill>
                <a:latin typeface="Times New Roman"/>
                <a:cs typeface="Times New Roman (Arabic)"/>
              </a:rPr>
              <a:t>ا من قبل الوحد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طبقا لمفهوم الوحدة يتم إستخدام طريقة الشراء عند إجراء عملية التجميع.</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شركات التابعة بإستخدام طريقة حقوق الملكي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abic)"/>
              </a:rPr>
              <a:t>   طبقا لهذه الطريقة تعرض القوائم المالية للمجموعة الحصة فى الأرباح المرتبطة بالشركة القابضة من الشركة التابعة وحصة الشركة القابضة فى صافى أصول الشركة التابعة وبالتالى لا يتم إظهار حقوق الاقلي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457200"/>
            <a:ext cx="8382240" cy="6497280"/>
          </a:xfrm>
          <a:prstGeom prst="rect">
            <a:avLst/>
          </a:prstGeom>
          <a:noFill/>
          <a:ln w="0">
            <a:noFill/>
          </a:ln>
        </p:spPr>
        <p:style>
          <a:lnRef idx="0"/>
          <a:fillRef idx="0"/>
          <a:effectRef idx="0"/>
          <a:fontRef idx="minor"/>
        </p:style>
        <p:txBody>
          <a:bodyPr lIns="90000" rIns="90000" tIns="46800" bIns="46800" anchor="t">
            <a:spAutoFit/>
          </a:bodyPr>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الطرق البديلة للمحاسبة عن المجموعات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فى ظل مفهوم الحياز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ركز مفهوم الحيازة على الملكية من خلال السيطرة على حيازة الاسهم وبالتالى تعد الحسابات أساسا لحملة أسهم الشركة القابضة. وفى هذا الإطار هناك شكلان:</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 القابضة</a:t>
            </a:r>
            <a:r>
              <a:rPr b="0" lang="ar-SA" sz="2000" spc="-1" strike="noStrike">
                <a:solidFill>
                  <a:srgbClr val="000000"/>
                </a:solidFill>
                <a:latin typeface="Times New Roman"/>
              </a:rPr>
              <a:t> وهو يشبه مفهوم الوحدة باستثناء حقوق الأقلية التى يتم إظهارها فيما يشبه الالتزامات.</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2</a:t>
            </a:r>
            <a:r>
              <a:rPr b="0" lang="ar-SA" sz="2000" spc="-1" strike="noStrike">
                <a:solidFill>
                  <a:srgbClr val="000000"/>
                </a:solidFill>
                <a:latin typeface="Times New Roman"/>
              </a:rPr>
              <a:t>)  </a:t>
            </a:r>
            <a:r>
              <a:rPr b="1" lang="ar-SA" sz="2000" spc="-1" strike="noStrike">
                <a:solidFill>
                  <a:srgbClr val="000000"/>
                </a:solidFill>
                <a:latin typeface="Times New Roman"/>
              </a:rPr>
              <a:t>طريقة التجميع النسبى</a:t>
            </a:r>
            <a:r>
              <a:rPr b="0" lang="ar-SA" sz="2000" spc="-1" strike="noStrike">
                <a:solidFill>
                  <a:srgbClr val="000000"/>
                </a:solidFill>
                <a:latin typeface="Times New Roman"/>
              </a:rPr>
              <a:t> التى يتم فيها إدراج حصة المجموعة فقط فى الأصول والالتزامات الفردية فى إجماليات المجموعة لذلك لا يتم عرض حقوق الاقلية فى صافى الاصول.</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ظهار القوائم المالية الفردية للشركة القابضة وشركاتها التابع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وائم المالية المجمعة ليس لها قيمة فى عرضها نتيجة عمل شركات المجموعة فى أنشطة مختلفة مما قد يؤدى الى انطباع مضلل عن أنشطة المجموعة ومن ثم قد يوفر الإفصاح عن القوائم المالية الفردية للشركات داخل المجموعة صورة أكثر معنى للمجموع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685800"/>
            <a:ext cx="86108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 التجم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طريقة حقوق الملك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قوائم المالية الفرد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فهوم الوح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حياز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حاسبة</a:t>
            </a:r>
            <a:r>
              <a:rPr b="0" lang="ar-SA" sz="2000" spc="-1" strike="noStrike">
                <a:solidFill>
                  <a:srgbClr val="000000"/>
                </a:solidFill>
                <a:latin typeface="Times New Roman"/>
              </a:rPr>
              <a:t> </a:t>
            </a:r>
            <a:r>
              <a:rPr b="1" lang="ar-SA" sz="2000" spc="-1" strike="noStrike">
                <a:solidFill>
                  <a:srgbClr val="000000"/>
                </a:solidFill>
                <a:latin typeface="Times New Roman"/>
              </a:rPr>
              <a:t>الشراء</a:t>
            </a:r>
            <a:r>
              <a:rPr b="0" lang="ar-SA" sz="2000" spc="-1" strike="noStrike">
                <a:solidFill>
                  <a:srgbClr val="000000"/>
                </a:solidFill>
                <a:latin typeface="Times New Roman"/>
              </a:rPr>
              <a:t>                   </a:t>
            </a:r>
            <a:r>
              <a:rPr b="1" lang="ar-SA" sz="2000" spc="-1" strike="noStrike">
                <a:solidFill>
                  <a:srgbClr val="000000"/>
                </a:solidFill>
                <a:latin typeface="Times New Roman"/>
              </a:rPr>
              <a:t>تجميع</a:t>
            </a:r>
            <a:r>
              <a:rPr b="0" lang="ar-SA" sz="2000" spc="-1" strike="noStrike">
                <a:solidFill>
                  <a:srgbClr val="000000"/>
                </a:solidFill>
                <a:latin typeface="Times New Roman"/>
              </a:rPr>
              <a:t> ا</a:t>
            </a:r>
            <a:r>
              <a:rPr b="1" lang="ar-SA" sz="2000" spc="-1" strike="noStrike">
                <a:solidFill>
                  <a:srgbClr val="000000"/>
                </a:solidFill>
                <a:latin typeface="Times New Roman"/>
              </a:rPr>
              <a:t>لمصالح</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a:t>
            </a:r>
            <a:r>
              <a:rPr b="0" lang="ar-SA" sz="2000" spc="-1" strike="noStrike">
                <a:solidFill>
                  <a:srgbClr val="000000"/>
                </a:solidFill>
                <a:latin typeface="Times New Roman"/>
              </a:rPr>
              <a:t> </a:t>
            </a:r>
            <a:r>
              <a:rPr b="1" lang="ar-SA" sz="2000" spc="-1" strike="noStrike">
                <a:solidFill>
                  <a:srgbClr val="000000"/>
                </a:solidFill>
                <a:latin typeface="Times New Roman"/>
              </a:rPr>
              <a:t>القابضة</a:t>
            </a:r>
            <a:r>
              <a:rPr b="0" lang="ar-SA" sz="2000" spc="-1" strike="noStrike">
                <a:solidFill>
                  <a:srgbClr val="000000"/>
                </a:solidFill>
                <a:latin typeface="Times New Roman"/>
              </a:rPr>
              <a:t>        </a:t>
            </a: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p:txBody>
      </p:sp>
      <p:sp>
        <p:nvSpPr>
          <p:cNvPr id="127" name=""/>
          <p:cNvSpPr/>
          <p:nvPr/>
        </p:nvSpPr>
        <p:spPr>
          <a:xfrm flipH="1">
            <a:off x="7238520" y="1905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3581280" y="18288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533160" y="18288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7238520" y="2438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581280" y="24382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33160" y="24382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400800" y="3429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6400800" y="39625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828440" y="3429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828440" y="39625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7086600" y="52578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4647960" y="5257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2057040" y="52578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38088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7086600" y="57913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4647960" y="57913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2057040" y="57913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380880" y="5791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3581280" y="6094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581280" y="11430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1295280" y="152388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38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335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5627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81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381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238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35268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84872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400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5345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866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1722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6483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911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574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7524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6272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58128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848720" y="1523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7200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29528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2514600" y="312408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1629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146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181480" y="480060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914400" y="4800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07732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18148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6576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9144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590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162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4571640" y="281952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5720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924680" y="2437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572000" y="1143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80880" y="547560"/>
            <a:ext cx="838224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مقارنة طريقتى التجميع وطريقة حقوق الملك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القوائم المالية الملخصة الفردي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لشركتى (أ) و (ب)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ميزان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3</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 ال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57200" y="228600"/>
            <a:ext cx="8381880" cy="642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قائمة الدخل عن عام </a:t>
            </a:r>
            <a:r>
              <a:rPr b="1" lang="ar-SA" sz="2000" spc="-1" strike="noStrike">
                <a:solidFill>
                  <a:srgbClr val="000000"/>
                </a:solidFill>
                <a:latin typeface="Times New Roman"/>
              </a:rPr>
              <a:t>2002</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90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مل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وائد تموي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ضرائب العا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7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ام (مرحل للعام التالى)</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3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533520"/>
            <a:ext cx="7924680" cy="3301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شترت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ملكية الشركة (ب) منذ أربع سنوات مضت عندما كانت إحتياطيات الشركة (ب) تبلغ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فالمطلوب إعداد القوائم المالية المجمعة (الميزانية وقوائم الدخل) فى ظل طريقة التجميع وطريقة حقوق الملكية وطريقة التجميع النسبى مع إفتراض أن الشهرة يتم إستنفادها على مدار ستة سنوات وبطريقة القسط الثابت.</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533520"/>
            <a:ext cx="845820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اولى</a:t>
            </a:r>
            <a:r>
              <a:rPr b="0" lang="ar-SA" sz="1800" spc="-1" strike="noStrike">
                <a:solidFill>
                  <a:srgbClr val="000000"/>
                </a:solidFill>
                <a:latin typeface="Times New Roman"/>
              </a:rPr>
              <a:t>: تعتبر الشركة (ب) شركة تابعة للشركة (أ) وبالتالى يتم تجميع الاصول والإلتزامات مع تخصيص رأس المال والإحتياطيات ما بين حقوق الأغلبية وحقوق الاق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غلبية = </a:t>
            </a:r>
            <a:r>
              <a:rPr b="0" lang="ar-SA" sz="1800" spc="-1" strike="noStrike">
                <a:solidFill>
                  <a:srgbClr val="000000"/>
                </a:solidFill>
                <a:latin typeface="Times New Roman"/>
              </a:rPr>
              <a:t>8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 </a:t>
            </a:r>
            <a:r>
              <a:rPr b="0" lang="ar-SA" sz="1800" spc="-1" strike="noStrike">
                <a:solidFill>
                  <a:srgbClr val="000000"/>
                </a:solidFill>
                <a:latin typeface="Times New Roman"/>
              </a:rPr>
              <a:t>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a:t>
            </a:r>
            <a:r>
              <a:rPr b="0" lang="ar-SA" sz="1800" spc="-1" strike="noStrike">
                <a:solidFill>
                  <a:srgbClr val="000000"/>
                </a:solidFill>
                <a:latin typeface="Times New Roman"/>
              </a:rPr>
              <a:t> إجراء الحسابات المنفصلة لشهرة المحل فى تاريخ كل معاملة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0</a:t>
            </a:r>
            <a:r>
              <a:rPr b="0" lang="ar-SA" sz="1800" spc="-1" strike="noStrike">
                <a:solidFill>
                  <a:srgbClr val="000000"/>
                </a:solidFill>
                <a:latin typeface="Times New Roman"/>
              </a:rPr>
              <a:t> مليون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2</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6</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1</a:t>
            </a:r>
            <a:r>
              <a:rPr b="0" lang="ar-SA" sz="1800" spc="-1" strike="noStrike">
                <a:solidFill>
                  <a:srgbClr val="000000"/>
                </a:solidFill>
                <a:latin typeface="Times New Roman"/>
              </a:rPr>
              <a:t>            </a:t>
            </a:r>
            <a:r>
              <a:rPr b="0" lang="ar-SA" sz="1800" spc="-1" strike="noStrike">
                <a:solidFill>
                  <a:srgbClr val="000000"/>
                </a:solidFill>
                <a:latin typeface="Times New Roman"/>
              </a:rPr>
              <a:t>1.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04920" y="152280"/>
            <a:ext cx="84582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أولى: تحديد شهرة المحل (ثابتة فى ظل كافة الطر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وإحتياطيات الشركة (ب)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أ) فى صافى الاصول عند الإقتناء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د الشهرة لمدة </a:t>
            </a:r>
            <a:r>
              <a:rPr b="0" lang="ar-SA" sz="2000" spc="-1" strike="noStrike">
                <a:solidFill>
                  <a:srgbClr val="000000"/>
                </a:solidFill>
                <a:latin typeface="Times New Roman"/>
              </a:rPr>
              <a:t>4</a:t>
            </a:r>
            <a:r>
              <a:rPr b="0" lang="ar-SA" sz="2000" spc="-1" strike="noStrike">
                <a:solidFill>
                  <a:srgbClr val="000000"/>
                </a:solidFill>
                <a:latin typeface="Times New Roman"/>
              </a:rPr>
              <a:t> سنو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غير المست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نية: تحديد حقوق الاق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أصول الشركة (ب)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2</a:t>
            </a:r>
            <a:r>
              <a:rPr b="0" lang="ar-SA" sz="2000" spc="-1" strike="noStrike">
                <a:solidFill>
                  <a:srgbClr val="000000"/>
                </a:solidFill>
                <a:latin typeface="Times New Roman"/>
              </a:rPr>
              <a:t> =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 تحديد إحتياطي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2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ا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60156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يزانية المجمعة للشركة (أ) والشركة التابعة (ب)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1" name=""/>
          <p:cNvGraphicFramePr/>
          <p:nvPr/>
        </p:nvGraphicFramePr>
        <p:xfrm>
          <a:off x="380880" y="1219320"/>
          <a:ext cx="8610840" cy="4743360"/>
        </p:xfrm>
        <a:graphic>
          <a:graphicData uri="http://schemas.openxmlformats.org/drawingml/2006/table">
            <a:tbl>
              <a:tblPr/>
              <a:tblGrid>
                <a:gridCol w="152424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هرة الناتجة عن الشر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صة فى صافى أصول التابعة (</a:t>
                      </a:r>
                      <a:r>
                        <a:rPr b="0" lang="ar-SA" sz="2000" spc="-1" strike="noStrike">
                          <a:solidFill>
                            <a:srgbClr val="000000"/>
                          </a:solidFill>
                          <a:latin typeface="Times New Roman"/>
                        </a:rPr>
                        <a:t>30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صول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إلتزامات وحقوق الملك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514600" y="30492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للشركة (أ) والشركة التابعة (ب) عن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3" name=""/>
          <p:cNvGraphicFramePr/>
          <p:nvPr/>
        </p:nvGraphicFramePr>
        <p:xfrm>
          <a:off x="304920" y="914400"/>
          <a:ext cx="8610480" cy="5473440"/>
        </p:xfrm>
        <a:graphic>
          <a:graphicData uri="http://schemas.openxmlformats.org/drawingml/2006/table">
            <a:tbl>
              <a:tblPr/>
              <a:tblGrid>
                <a:gridCol w="152388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عمل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الحصة فى ربح التابعة(</a:t>
                      </a:r>
                      <a:r>
                        <a:rPr b="0" lang="ar-SA" sz="2000" spc="-1" strike="noStrike">
                          <a:solidFill>
                            <a:srgbClr val="000000"/>
                          </a:solidFill>
                          <a:latin typeface="Times New Roman"/>
                        </a:rPr>
                        <a:t>3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فوائد التموي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شهرة المح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بعد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8</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 (</a:t>
                      </a:r>
                      <a:r>
                        <a:rPr b="0" lang="ar-SA" sz="2000" spc="-1" strike="noStrike">
                          <a:solidFill>
                            <a:srgbClr val="000000"/>
                          </a:solidFill>
                          <a:latin typeface="Times New Roman"/>
                        </a:rPr>
                        <a:t>140</a:t>
                      </a:r>
                      <a:r>
                        <a:rPr b="0" lang="ar-SA" sz="2000" spc="-1" strike="noStrike">
                          <a:solidFill>
                            <a:srgbClr val="000000"/>
                          </a:solidFill>
                          <a:latin typeface="Times New Roman"/>
                        </a:rPr>
                        <a:t> * </a:t>
                      </a:r>
                      <a:r>
                        <a:rPr b="0" lang="ar-SA" sz="2000" spc="-1" strike="noStrike">
                          <a:solidFill>
                            <a:srgbClr val="000000"/>
                          </a:solidFill>
                          <a:latin typeface="Times New Roman"/>
                        </a:rPr>
                        <a:t>2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بح المجموع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flipH="1">
            <a:off x="304920" y="579132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1600200"/>
            <a:ext cx="8153280" cy="4362840"/>
          </a:xfrm>
          <a:prstGeom prst="rect">
            <a:avLst/>
          </a:prstGeom>
          <a:noFill/>
          <a:ln w="0">
            <a:noFill/>
          </a:ln>
        </p:spPr>
        <p:style>
          <a:lnRef idx="0"/>
          <a:fillRef idx="0"/>
          <a:effectRef idx="0"/>
          <a:fontRef idx="minor"/>
        </p:style>
        <p:txBody>
          <a:bodyPr lIns="90000" rIns="90000" tIns="46800" bIns="46800" anchor="t">
            <a:spAutoFit/>
          </a:bodyPr>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ييم الطرق المختلفة للمحاسبة عن حسابات المجموعة</a:t>
            </a: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ميزانية مختلفة تماما فى الشكل حيث أن الميزانية المجمعة فى ظل طريق التجميع تظهر قروض طويلة الاجل هامة نشأت بمعرفة الشركة التابع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تفشل طريقة حقوق الملكية فى إظهار الأصول والإلتزامات المرتبطة فلا يعتبر إستخدامها طريقة ملائمة لإظهار حسابات المجموعة. وبالتالى فهى تستخدم فقط عندما يعتبر التجميع غير ملائما أو بالنسبة للمحاسبة عن الشركات الشقيق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 تستخدم بصفة عامة طريقة التجميع النسبى لكن قد تستخدم للمشروعات المشترك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04920"/>
            <a:ext cx="861048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الإحتياطيات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كونة بعد الشراء</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0</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2</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ثر على الميزانية المجمع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مجم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a:t>
            </a:r>
            <a:r>
              <a:rPr b="0" lang="ar-SA" sz="1800" spc="-1" strike="noStrike">
                <a:solidFill>
                  <a:srgbClr val="000000"/>
                </a:solidFill>
                <a:latin typeface="Times New Roman"/>
              </a:rPr>
              <a:t>20</a:t>
            </a:r>
            <a:r>
              <a:rPr b="0" lang="ar-SA" sz="1800" spc="-1" strike="noStrike">
                <a:solidFill>
                  <a:srgbClr val="000000"/>
                </a:solidFill>
                <a:latin typeface="Times New Roman"/>
              </a:rPr>
              <a:t>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8.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ضافة الى إحتياطيات المجمو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6.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ذف الإستثمار ويتم إستبداله بالعناصر المذكو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85800"/>
            <a:ext cx="838188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آثار الإصدار اللاحق لأسهم العلاوة (المكافاة) او تخفيض رأس مال الشركة التابع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a:t>
            </a:r>
            <a:r>
              <a:rPr b="1" lang="ar-SA" sz="2400" spc="-1" strike="noStrike">
                <a:solidFill>
                  <a:srgbClr val="000000"/>
                </a:solidFill>
                <a:latin typeface="Times New Roman"/>
              </a:rPr>
              <a:t>التغييرات فى رأس مال اسهم الشركة التابعة بعد إقتنائ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صدار العلاوة او المكافا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صدار العلاوة أو المكافأة يتمثل فى تحويل الإحتياطيات الى راس مال الاسهم وبالتالى لا يجب ان تؤثر عملية إصدار العلاوة أو المكافاة على القوائم المالية المجمعة.</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كون صافى أصول المجموعة كما هو ويكون للشركة القابضة نفس نسبة الملكية فى الشركة التاب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990720"/>
            <a:ext cx="83059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الأخذ فى الإعتبار رقم الإحتياطيات فى تاريخ الشر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العلاوة أقل من قيمة الإحتياطيات التى كانت 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فض الإحتياطيات فى تاريخ الإقتناء نتيجة إصدار العلاوة عند حساب الشهرة ولكن يلاحظ ان شهرة المحل ستبقى بدون تغيير لأن رأس مال الاسهم سيزيد بحصة المجموعة فى إصدار العلاو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أسهم العلاوة اكبر من قيمة الإحتياطيات ال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ن تظل أرباح ما بعد الإقتناء كما هى كما كانت قبل الإصدار وبالتالى فإن حصة المجموعة فى كل من الإحتيطيات المتبقية للشركة التابعة يجب ان تدرج فى الإحتياطيات المجمعة بالإضافة الى حصة المجموعة فى الارباح اللاحقة للشراء التى تم تحويلها الى راس مال ا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20:22:59Z</dcterms:created>
  <dc:creator>Administrator</dc:creator>
  <dc:description/>
  <dc:language>en-US</dc:language>
  <cp:lastModifiedBy>Administrator</cp:lastModifiedBy>
  <dcterms:modified xsi:type="dcterms:W3CDTF">2004-06-02T23:44:50Z</dcterms:modified>
  <cp:revision>64</cp:revision>
  <dc:subject/>
  <dc:title>PowerPoint Presentation</dc:title>
</cp:coreProperties>
</file>